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6.png" ContentType="image/png"/>
  <Override PartName="/ppt/media/image4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2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0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14.jpeg" ContentType="image/jpeg"/>
  <Override PartName="/ppt/media/image41.png" ContentType="image/png"/>
  <Override PartName="/ppt/media/image48.jpeg" ContentType="image/jpeg"/>
  <Override PartName="/ppt/media/image38.jpeg" ContentType="image/jpeg"/>
  <Override PartName="/ppt/media/image54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31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8F0E93-2816-4D90-801E-16B039AF934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6A67BB-39E8-40B5-9D2F-49811773E10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35D-CF65-405C-AA34-D4518AF6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EEA-AF75-4535-8DDC-9F8D219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FAC-3D37-4473-A713-AF24478A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B11-14C6-40A2-892B-B3782181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D16-7984-4096-B11B-0946F5B9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A2E-525C-460E-8D5E-8A35462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46B-3479-4BBC-B980-C259860A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9B5-99AA-481D-ACAA-2AF0DB5E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CBC-A308-4597-8D7D-61062578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95F-613C-4E90-9433-70DD79E2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7AA-C3A8-4690-B546-74DC3A4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74C-A0D1-4DF9-9D5E-5DB1182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E79-BED8-4941-8C99-085CC94ACE9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images.google.com.ar/imgres?imgurl=http://www.mygomera.de/fotos/04-09-17_fischer/pescados_800.jpg&amp;imgrefurl=http://yalearaujo7.blogspot.com/&amp;usg=__kwOEVNQdhwhrd0I-1UkxtWCrYYU=&amp;h=600&amp;w=800&amp;sz=102&amp;hl=es&amp;start=128&amp;tbnid=I4KwKBNfdBz16M:&amp;tbnh=107&amp;tbnw=143&amp;prev=/images%3Fq%3Dclasificacion%2Bde%2Bvitaminas%2Bhidrosolubles%26gbv%3D2%26ndsp%3D18%26hl%3Des%26sa%3DN%26start%3D126" TargetMode="External"/><Relationship Id="rId10" Type="http://schemas.openxmlformats.org/officeDocument/2006/relationships/image" Target="../media/image5.png"/><Relationship Id="rId11" Type="http://schemas.openxmlformats.org/officeDocument/2006/relationships/hyperlink" Target="http://images.google.com.ar/imgres?imgurl=http://bp2.blogger.com/_EVfrzn4abyg/SIPwI-QeI5I/AAAAAAAAABE/iRWTloSv40U/s400/69.jpg&amp;imgrefurl=http://malenapharma.blogspot.com/2008/07/la-importancia-de-la-vitaminas.html&amp;usg=__viD838fHh3iEx4OfuUNO9kp5PG0=&amp;h=113&amp;w=150&amp;sz=4&amp;hl=es&amp;start=225&amp;tbnid=bHH-147IeshnpM:&amp;tbnh=72&amp;tbnw=96&amp;prev=/images%3Fq%3Dclasificacion%2Bde%2Bvitaminas%2Bhidrosolubles%26gbv%3D2%26ndsp%3D18%26hl%3Des%26sa%3DN%26start%3D216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52.jpe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54.jpeg"/><Relationship Id="rId7" Type="http://schemas.openxmlformats.org/officeDocument/2006/relationships/image" Target="../media/image3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714240"/>
            <a:ext cx="2643120" cy="301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500720"/>
            <a:ext cx="2125800" cy="19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880" y="3786120"/>
            <a:ext cx="2351160" cy="245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bn0.google.com/images?q=tbn:CcgQhy2MHcUoBM:http://www.granjasdeluruguay.com.uy/materiales/verduras-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57880" y="314316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tbn0.google.com/images?q=tbn:I4KwKBNfdBz16M:http://www.mygomera.de/fotos/04-09-17_fischer/pescados_80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00280" y="785880"/>
            <a:ext cx="2508480" cy="187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tbn2.google.com/images?q=tbn:bHH-147IeshnpM:http://bp2.blogger.com/_EVfrzn4abyg/SIPwI-QeI5I/AAAAAAAAABE/iRWTloSv40U/s400/69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14760" y="378612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arne sana"/>
          <p:cNvPicPr/>
          <p:nvPr/>
        </p:nvPicPr>
        <p:blipFill>
          <a:blip r:embed="rId13"/>
          <a:stretch/>
        </p:blipFill>
        <p:spPr>
          <a:xfrm>
            <a:off x="785880" y="1857240"/>
            <a:ext cx="2592360" cy="195444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ANd9GcSKID_fqN0x19q6BOqvGOSMTNEoSZqVAzYg8lIN-PnuUV8RjeQJ"/>
          <p:cNvPicPr/>
          <p:nvPr/>
        </p:nvPicPr>
        <p:blipFill>
          <a:blip r:embed="rId14"/>
          <a:stretch/>
        </p:blipFill>
        <p:spPr>
          <a:xfrm>
            <a:off x="6929280" y="4572000"/>
            <a:ext cx="1378080" cy="2033640"/>
          </a:xfrm>
          <a:prstGeom prst="rect">
            <a:avLst/>
          </a:prstGeom>
          <a:ln w="0">
            <a:noFill/>
          </a:ln>
        </p:spPr>
      </p:pic>
      <p:sp>
        <p:nvSpPr>
          <p:cNvPr id="57" name="16 Rectángulo"/>
          <p:cNvSpPr/>
          <p:nvPr/>
        </p:nvSpPr>
        <p:spPr>
          <a:xfrm>
            <a:off x="214200" y="857160"/>
            <a:ext cx="8715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VITAMIN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ropiedades generales. Clasificación: Vitaminas liposolubles e hidrosolubles. Estructura química. Papel funcional de las vitaminas. Provitaminas. Metabolismo. Bioquímica de las avitami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MINERALES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incipales componentes minerales del organismo. Ubicación celular. Requerimientos. Absorción. Funciones. Homeostasi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_s169991"/>
          <p:cNvCxnSpPr>
            <a:endCxn id="84" idx="2"/>
          </p:cNvCxnSpPr>
          <p:nvPr/>
        </p:nvCxnSpPr>
        <p:spPr>
          <a:xfrm rot="10800000">
            <a:off x="6821640" y="3428280"/>
            <a:ext cx="255960" cy="2160"/>
          </a:xfrm>
          <a:prstGeom prst="bentConnector2">
            <a:avLst/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85" name="_s169993"/>
          <p:cNvCxnSpPr/>
          <p:nvPr/>
        </p:nvCxnSpPr>
        <p:spPr>
          <a:xfrm flipV="1" rot="16200000">
            <a:off x="4431240" y="-1104840"/>
            <a:ext cx="714960" cy="4609440"/>
          </a:xfrm>
          <a:prstGeom prst="bentConnector3">
            <a:avLst>
              <a:gd name="adj1" fmla="val 49974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86" name="_s169994"/>
          <p:cNvCxnSpPr/>
          <p:nvPr/>
        </p:nvCxnSpPr>
        <p:spPr>
          <a:xfrm flipH="1" flipV="1" rot="5400000">
            <a:off x="3636720" y="-27720"/>
            <a:ext cx="143640" cy="2448720"/>
          </a:xfrm>
          <a:prstGeom prst="bentConnector3">
            <a:avLst>
              <a:gd name="adj1" fmla="val 50000"/>
            </a:avLst>
          </a:prstGeom>
          <a:ln w="28440">
            <a:solidFill>
              <a:srgbClr val="006699"/>
            </a:solidFill>
            <a:miter/>
          </a:ln>
        </p:spPr>
      </p:cxnSp>
      <p:sp>
        <p:nvSpPr>
          <p:cNvPr id="87" name="_s169995"/>
          <p:cNvSpPr/>
          <p:nvPr/>
        </p:nvSpPr>
        <p:spPr>
          <a:xfrm>
            <a:off x="1403280" y="0"/>
            <a:ext cx="6553440" cy="11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CLASIFICACION DE LAS VITAMI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SEGÚN SU SOLUBILIDAD</a:t>
            </a:r>
            <a:r>
              <a:rPr b="1" lang="es-AR" sz="3200" spc="-1" strike="noStrike">
                <a:solidFill>
                  <a:srgbClr val="0066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_s169996"/>
          <p:cNvSpPr/>
          <p:nvPr/>
        </p:nvSpPr>
        <p:spPr>
          <a:xfrm>
            <a:off x="71280" y="1268280"/>
            <a:ext cx="4248360" cy="1933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HIDR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acumulan en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eliminan 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Es preciso aportarlas di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169997"/>
          <p:cNvSpPr/>
          <p:nvPr/>
        </p:nvSpPr>
        <p:spPr>
          <a:xfrm>
            <a:off x="4572000" y="1279440"/>
            <a:ext cx="4500720" cy="2149560"/>
          </a:xfrm>
          <a:prstGeom prst="roundRect">
            <a:avLst>
              <a:gd name="adj" fmla="val 16667"/>
            </a:avLst>
          </a:prstGeom>
          <a:solidFill>
            <a:srgbClr val="fcf56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1900"/>
                </a:solidFill>
                <a:latin typeface="Arial Narrow"/>
              </a:rPr>
              <a:t>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almacenan en hígado y teji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  </a:t>
            </a: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absorben ni excretan fáci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_s169998"/>
          <p:cNvSpPr/>
          <p:nvPr/>
        </p:nvSpPr>
        <p:spPr>
          <a:xfrm>
            <a:off x="108000" y="3429000"/>
            <a:ext cx="5113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VIT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COMPLEJO 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B1 – B2 – B3 – B6 – </a:t>
            </a:r>
            <a:r>
              <a:rPr b="1" lang="es-ES" sz="2400" spc="-1" strike="noStrike">
                <a:solidFill>
                  <a:srgbClr val="ea7a26"/>
                </a:solidFill>
                <a:latin typeface="Arial Narrow"/>
              </a:rPr>
              <a:t>B12 –</a:t>
            </a: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 BIO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AC. PANTOTENICO - AC. FO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_s169999"/>
          <p:cNvSpPr/>
          <p:nvPr/>
        </p:nvSpPr>
        <p:spPr>
          <a:xfrm>
            <a:off x="5643720" y="3929040"/>
            <a:ext cx="3114360" cy="563760"/>
          </a:xfrm>
          <a:prstGeom prst="roundRect">
            <a:avLst>
              <a:gd name="adj" fmla="val 16667"/>
            </a:avLst>
          </a:prstGeom>
          <a:solidFill>
            <a:srgbClr val="fcf56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Arial Narrow"/>
              </a:rPr>
              <a:t>A  D  E 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_s170001"/>
          <p:cNvSpPr/>
          <p:nvPr/>
        </p:nvSpPr>
        <p:spPr>
          <a:xfrm>
            <a:off x="5143680" y="5072040"/>
            <a:ext cx="3857400" cy="1500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Aceites , lácteos y deriv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y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Rectángulo redondeado"/>
          <p:cNvSpPr/>
          <p:nvPr/>
        </p:nvSpPr>
        <p:spPr>
          <a:xfrm>
            <a:off x="214200" y="5072040"/>
            <a:ext cx="4429080" cy="15717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nes, vísceras, huevo, leche, legumbres, cereales, levaduras, frutos frescos y secos, cítricos , vegetales de hojas ver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3"/>
          <p:cNvSpPr/>
          <p:nvPr/>
        </p:nvSpPr>
        <p:spPr>
          <a:xfrm>
            <a:off x="6767640" y="0"/>
            <a:ext cx="237636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, D, E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4124160" y="5157720"/>
            <a:ext cx="2519640" cy="1368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istema%20digestivo"/>
          <p:cNvPicPr/>
          <p:nvPr/>
        </p:nvPicPr>
        <p:blipFill>
          <a:blip r:embed="rId1"/>
          <a:srcRect l="32002" t="7834" r="29606" b="3451"/>
          <a:stretch/>
        </p:blipFill>
        <p:spPr>
          <a:xfrm>
            <a:off x="39528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940360" y="242100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715080" y="5429160"/>
            <a:ext cx="24289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emulsionan con lípidos 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7740720" y="4653000"/>
            <a:ext cx="0" cy="7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468360" y="189000"/>
            <a:ext cx="790560" cy="57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6659640" y="3421080"/>
            <a:ext cx="2303280" cy="116928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V="1">
            <a:off x="766764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"/>
          <p:cNvSpPr/>
          <p:nvPr/>
        </p:nvSpPr>
        <p:spPr>
          <a:xfrm>
            <a:off x="4284720" y="4076640"/>
            <a:ext cx="2287440" cy="115272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 A y Vi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5435640" y="1341360"/>
            <a:ext cx="338436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3"/>
          <p:cNvSpPr/>
          <p:nvPr/>
        </p:nvSpPr>
        <p:spPr>
          <a:xfrm flipV="1">
            <a:off x="7596360" y="198864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468180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VITAMINAS LIPOSOLU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73 0.00069 0.06129 0.00092 0.09201 0.00208 C 0.09948 0.00231 0.10278 0.00254 0.10799 0.00832 C 0.11389 0.01479 0.11701 0.02427 0.12222 0.03167 C 0.12465 0.04416 0.12604 0.05711 0.12847 0.06959 C 0.12951 0.10959 0.12726 0.12554 0.1349 0.1563 C 0.13542 0.16971 0.13559 0.18312 0.13646 0.19653 C 0.1375 0.21156 0.14254 0.22659 0.14601 0.24092 C 0.14792 0.24901 0.15573 0.25711 0.16024 0.26196 C 0.16875 0.27098 0.15816 0.26127 0.16667 0.2726 C 0.16806 0.27445 0.16997 0.27514 0.17136 0.27676 C 0.17986 0.28578 0.16927 0.27607 0.17778 0.28739 C 0.18299 0.29433 0.18906 0.3008 0.19514 0.30635 C 0.20417 0.32393 0.19236 0.30265 0.20313 0.31699 C 0.20451 0.31884 0.20504 0.32138 0.20625 0.32323 C 0.20868 0.32693 0.21111 0.33109 0.21424 0.33387 C 0.2158 0.33526 0.21771 0.33641 0.2191 0.33803 C 0.23629 0.35838 0.22188 0.34474 0.23333 0.35514 C 0.23733 0.36323 0.2382 0.36855 0.23958 0.37826 C 0.23906 0.38682 0.23924 0.39537 0.23802 0.4037 C 0.23767 0.40647 0.23333 0.41225 0.23177 0.41433 C 0.22101 0.42867 0.21129 0.43676 0.19514 0.43745 C 0.15972 0.43884 0.12431 0.43884 0.08889 0.43953 C 0.08733 0.44092 0.08524 0.44185 0.08403 0.44393 C 0.08229 0.4467 0.08212 0.45641 0.0809 0.45872 C 0.07882 0.46289 0.07292 0.46913 0.07292 0.46913 C 0.06945 0.48323 0.07205 0.46797 0.07292 0.48185 C 0.07396 0.49872 0.07326 0.51583 0.07465 0.53271 C 0.07517 0.53826 0.07986 0.54034 0.08247 0.54312 C 0.09254 0.55398 0.10504 0.5563 0.11736 0.56231 C 0.13542 0.56161 0.15347 0.56208 0.17136 0.56 C 0.18507 0.55838 0.1632 0.55075 0.17934 0.55791 C 0.18142 0.57757 0.18316 0.59144 0.19201 0.6067 C 0.19323 0.60878 0.19375 0.61133 0.19514 0.61294 C 0.19983 0.61803 0.20399 0.61734 0.20955 0.61919 C 0.21684 0.62173 0.22309 0.62682 0.23021 0.62982 C 0.23056 0.63028 0.23837 0.64023 0.23802 0.64254 C 0.23767 0.64554 0.2349 0.6467 0.23333 0.64878 C 0.22483 0.64809 0.21632 0.64809 0.20799 0.6467 C 0.19254 0.64393 0.20434 0.64138 0.19045 0.64046 C 0.17136 0.6393 0.15243 0.63907 0.13333 0.63838 C 0.1283 0.63144 0.12118 0.63052 0.1158 0.62358 C 0.11267 0.62427 0.1092 0.62381 0.10625 0.62566 C 0.10191 0.62843 0.10399 0.63422 0.10156 0.63838 C 0.1 0.64092 0.09201 0.64578 0.09045 0.6467 C 0.08681 0.65179 0.08629 0.65664 0.08247 0.6615 C 0.07934 0.67815 0.07708 0.67537 0.06667 0.68277 C 0.0625 0.68208 0.05747 0.68393 0.05399 0.68069 C 0.05122 0.67815 0.05087 0.67237 0.0507 0.66797 C 0.05 0.64578 0.04948 0.61965 0.06181 0.60231 C 0.06372 0.59514 0.06667 0.58867 0.06823 0.58127 C 0.07222 0.56185 0.06806 0.56878 0.07465 0.56 C 0.07761 0.54404 0.07379 0.55861 0.0809 0.5452 C 0.08281 0.54173 0.08629 0.52948 0.08733 0.52624 C 0.09201 0.49433 0.09323 0.46196 0.07292 0.44161 C 0.06545 0.43398 0.05903 0.4252 0.05243 0.41641 C 0.0434 0.40439 0.05191 0.41364 0.04288 0.40786 C 0.04115 0.4067 0.03802 0.4037 0.03802 0.4037 E">
                                      <p:cBhvr>
                                        <p:cTn id="30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9434 L -0.48038 -0.10474 E">
                                      <p:cBhvr>
                                        <p:cTn id="35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7240" y="928440"/>
            <a:ext cx="4786560" cy="7398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itamina Liposoluble: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2195640" y="1557360"/>
            <a:ext cx="4033800" cy="1800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4067280" y="3500280"/>
            <a:ext cx="0" cy="8654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8"/>
          <p:cNvGrpSpPr/>
          <p:nvPr/>
        </p:nvGrpSpPr>
        <p:grpSpPr>
          <a:xfrm>
            <a:off x="3132000" y="4724280"/>
            <a:ext cx="2940120" cy="1511280"/>
            <a:chOff x="3132000" y="4724280"/>
            <a:chExt cx="2940120" cy="1511280"/>
          </a:xfrm>
        </p:grpSpPr>
        <p:grpSp>
          <p:nvGrpSpPr>
            <p:cNvPr id="110" name="Group 21"/>
            <p:cNvGrpSpPr/>
            <p:nvPr/>
          </p:nvGrpSpPr>
          <p:grpSpPr>
            <a:xfrm>
              <a:off x="3132000" y="4724280"/>
              <a:ext cx="1727280" cy="1511280"/>
              <a:chOff x="3132000" y="4724280"/>
              <a:chExt cx="1727280" cy="1511280"/>
            </a:xfrm>
          </p:grpSpPr>
          <p:grpSp>
            <p:nvGrpSpPr>
              <p:cNvPr id="111" name="Group 22"/>
              <p:cNvGrpSpPr/>
              <p:nvPr/>
            </p:nvGrpSpPr>
            <p:grpSpPr>
              <a:xfrm>
                <a:off x="3132000" y="4724280"/>
                <a:ext cx="1727280" cy="1511280"/>
                <a:chOff x="3132000" y="4724280"/>
                <a:chExt cx="1727280" cy="1511280"/>
              </a:xfrm>
            </p:grpSpPr>
            <p:grpSp>
              <p:nvGrpSpPr>
                <p:cNvPr id="112" name="Group 23"/>
                <p:cNvGrpSpPr/>
                <p:nvPr/>
              </p:nvGrpSpPr>
              <p:grpSpPr>
                <a:xfrm>
                  <a:off x="3132000" y="4724280"/>
                  <a:ext cx="1727280" cy="1511280"/>
                  <a:chOff x="3132000" y="4724280"/>
                  <a:chExt cx="1727280" cy="1511280"/>
                </a:xfrm>
              </p:grpSpPr>
              <p:sp>
                <p:nvSpPr>
                  <p:cNvPr id="113" name="Oval 24"/>
                  <p:cNvSpPr/>
                  <p:nvPr/>
                </p:nvSpPr>
                <p:spPr>
                  <a:xfrm>
                    <a:off x="3348000" y="48686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Oval 25"/>
                  <p:cNvSpPr/>
                  <p:nvPr/>
                </p:nvSpPr>
                <p:spPr>
                  <a:xfrm>
                    <a:off x="3779640" y="5300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26"/>
                  <p:cNvSpPr/>
                  <p:nvPr/>
                </p:nvSpPr>
                <p:spPr>
                  <a:xfrm>
                    <a:off x="3419280" y="5516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Oval 27"/>
                  <p:cNvSpPr/>
                  <p:nvPr/>
                </p:nvSpPr>
                <p:spPr>
                  <a:xfrm>
                    <a:off x="3132000" y="52290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Oval 28"/>
                  <p:cNvSpPr/>
                  <p:nvPr/>
                </p:nvSpPr>
                <p:spPr>
                  <a:xfrm>
                    <a:off x="4067280" y="50846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29"/>
                  <p:cNvSpPr/>
                  <p:nvPr/>
                </p:nvSpPr>
                <p:spPr>
                  <a:xfrm>
                    <a:off x="3779640" y="47955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30"/>
                  <p:cNvSpPr/>
                  <p:nvPr/>
                </p:nvSpPr>
                <p:spPr>
                  <a:xfrm>
                    <a:off x="4211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Oval 31"/>
                  <p:cNvSpPr/>
                  <p:nvPr/>
                </p:nvSpPr>
                <p:spPr>
                  <a:xfrm>
                    <a:off x="4140000" y="4724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Oval 32"/>
                  <p:cNvSpPr/>
                  <p:nvPr/>
                </p:nvSpPr>
                <p:spPr>
                  <a:xfrm>
                    <a:off x="3779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Oval 33"/>
                  <p:cNvSpPr/>
                  <p:nvPr/>
                </p:nvSpPr>
                <p:spPr>
                  <a:xfrm>
                    <a:off x="3132000" y="55879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Oval 34"/>
                  <p:cNvSpPr/>
                  <p:nvPr/>
                </p:nvSpPr>
                <p:spPr>
                  <a:xfrm>
                    <a:off x="4356000" y="51559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Oval 35"/>
                <p:cNvSpPr/>
                <p:nvPr/>
              </p:nvSpPr>
              <p:spPr>
                <a:xfrm>
                  <a:off x="3564000" y="50846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Oval 36"/>
              <p:cNvSpPr/>
              <p:nvPr/>
            </p:nvSpPr>
            <p:spPr>
              <a:xfrm>
                <a:off x="4213080" y="54435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37"/>
            <p:cNvSpPr/>
            <p:nvPr/>
          </p:nvSpPr>
          <p:spPr>
            <a:xfrm>
              <a:off x="4356000" y="5398920"/>
              <a:ext cx="171612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Oval 11"/>
          <p:cNvSpPr/>
          <p:nvPr/>
        </p:nvSpPr>
        <p:spPr>
          <a:xfrm>
            <a:off x="4500720" y="3716280"/>
            <a:ext cx="1214280" cy="78444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45 0.0259 0.0309 0.05203 0.02379 0.08047 C 0.01667 0.10891 -0.03177 0.1563 -0.04288 0.17133 E">
                                      <p:cBhvr>
                                        <p:cTn id="39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5581" t="346" r="-440" b="81111"/>
          <a:stretch/>
        </p:blipFill>
        <p:spPr>
          <a:xfrm>
            <a:off x="179280" y="2060640"/>
            <a:ext cx="424836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6" descr=""/>
          <p:cNvPicPr/>
          <p:nvPr/>
        </p:nvPicPr>
        <p:blipFill>
          <a:blip r:embed="rId2">
            <a:lum bright="18000"/>
          </a:blip>
          <a:srcRect l="5581" t="17900" r="-440" b="58670"/>
          <a:stretch/>
        </p:blipFill>
        <p:spPr>
          <a:xfrm>
            <a:off x="4859280" y="404640"/>
            <a:ext cx="4103640" cy="17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3">
            <a:lum bright="18000"/>
          </a:blip>
          <a:srcRect l="5581" t="40710" r="-440" b="38883"/>
          <a:stretch/>
        </p:blipFill>
        <p:spPr>
          <a:xfrm>
            <a:off x="4572000" y="3860640"/>
            <a:ext cx="424800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Oval 8"/>
          <p:cNvSpPr/>
          <p:nvPr/>
        </p:nvSpPr>
        <p:spPr>
          <a:xfrm>
            <a:off x="7572240" y="5429160"/>
            <a:ext cx="648000" cy="647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2643120" y="3429000"/>
            <a:ext cx="1081080" cy="6494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6280" y="5135400"/>
            <a:ext cx="2952720" cy="58140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-CAROT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3429000" y="5072040"/>
            <a:ext cx="647640" cy="647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7350120" y="1928880"/>
            <a:ext cx="1008000" cy="863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57200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643280" y="299736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4786200" cy="185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Sinónimo: Ret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168120" y="5786280"/>
            <a:ext cx="5332680" cy="981360"/>
          </a:xfrm>
          <a:prstGeom prst="rect">
            <a:avLst/>
          </a:prstGeom>
          <a:ln w="0">
            <a:noFill/>
          </a:ln>
        </p:spPr>
      </p:pic>
      <p:sp>
        <p:nvSpPr>
          <p:cNvPr id="140" name="14 CuadroTexto"/>
          <p:cNvSpPr/>
          <p:nvPr/>
        </p:nvSpPr>
        <p:spPr>
          <a:xfrm>
            <a:off x="4578480" y="26431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5 CuadroTexto"/>
          <p:cNvSpPr/>
          <p:nvPr/>
        </p:nvSpPr>
        <p:spPr>
          <a:xfrm>
            <a:off x="5849640" y="2143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rm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6 CuadroTexto"/>
          <p:cNvSpPr/>
          <p:nvPr/>
        </p:nvSpPr>
        <p:spPr>
          <a:xfrm>
            <a:off x="6010200" y="56437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rm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7 CuadroTexto"/>
          <p:cNvSpPr/>
          <p:nvPr/>
        </p:nvSpPr>
        <p:spPr>
          <a:xfrm>
            <a:off x="5429160" y="6345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-Vi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8 CuadroTexto"/>
          <p:cNvSpPr/>
          <p:nvPr/>
        </p:nvSpPr>
        <p:spPr>
          <a:xfrm>
            <a:off x="1152360" y="3643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orm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20 Conector recto de flecha"/>
          <p:cNvCxnSpPr>
            <a:stCxn id="133" idx="0"/>
          </p:cNvCxnSpPr>
          <p:nvPr/>
        </p:nvCxnSpPr>
        <p:spPr>
          <a:xfrm flipV="1">
            <a:off x="1952640" y="4142880"/>
            <a:ext cx="48240" cy="9928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46" name="22 Conector recto de flecha"/>
          <p:cNvCxnSpPr/>
          <p:nvPr/>
        </p:nvCxnSpPr>
        <p:spPr>
          <a:xfrm flipH="1" flipV="1">
            <a:off x="2071440" y="4000320"/>
            <a:ext cx="24480" cy="10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3203640" y="3429000"/>
            <a:ext cx="5940360" cy="194472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recimiento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 células epitel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3708360" y="1413000"/>
            <a:ext cx="4103640" cy="18698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sión y 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uz-Osc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928960" y="5345280"/>
            <a:ext cx="3168720" cy="151272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ioxi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1" descr="ojo"/>
          <p:cNvPicPr/>
          <p:nvPr/>
        </p:nvPicPr>
        <p:blipFill>
          <a:blip r:embed="rId1"/>
          <a:stretch/>
        </p:blipFill>
        <p:spPr>
          <a:xfrm>
            <a:off x="468360" y="1773360"/>
            <a:ext cx="2556000" cy="192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ANd9GcSpLzJE3DnrVdP5LUD75MdIyCCt0Okpc3UB8TgzRzUzJbUc7cQacg"/>
          <p:cNvPicPr/>
          <p:nvPr/>
        </p:nvPicPr>
        <p:blipFill>
          <a:blip r:embed="rId2"/>
          <a:stretch/>
        </p:blipFill>
        <p:spPr>
          <a:xfrm>
            <a:off x="539640" y="4365720"/>
            <a:ext cx="2352960" cy="1942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5929200" y="6072120"/>
            <a:ext cx="2952720" cy="5205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-Carot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8 CuadroTexto"/>
          <p:cNvSpPr/>
          <p:nvPr/>
        </p:nvSpPr>
        <p:spPr>
          <a:xfrm>
            <a:off x="6357960" y="4929120"/>
            <a:ext cx="2552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. Retino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9 CuadroTexto"/>
          <p:cNvSpPr/>
          <p:nvPr/>
        </p:nvSpPr>
        <p:spPr>
          <a:xfrm>
            <a:off x="6591240" y="2786040"/>
            <a:ext cx="2552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1-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is-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179280" y="2146320"/>
            <a:ext cx="4969080" cy="2854440"/>
          </a:xfrm>
          <a:prstGeom prst="rect">
            <a:avLst/>
          </a:prstGeom>
          <a:ln w="0">
            <a:noFill/>
          </a:ln>
        </p:spPr>
      </p:pic>
      <p:sp>
        <p:nvSpPr>
          <p:cNvPr id="157" name="Oval 7"/>
          <p:cNvSpPr/>
          <p:nvPr/>
        </p:nvSpPr>
        <p:spPr>
          <a:xfrm>
            <a:off x="826920" y="2060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54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"/>
          <p:cNvSpPr/>
          <p:nvPr/>
        </p:nvSpPr>
        <p:spPr>
          <a:xfrm>
            <a:off x="755640" y="3284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,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763640" y="4076640"/>
            <a:ext cx="0" cy="1297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9280" y="5357880"/>
            <a:ext cx="424836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FR+ROL+Prealbú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5435640" y="2276640"/>
            <a:ext cx="3058920" cy="3889080"/>
          </a:xfrm>
          <a:prstGeom prst="ellipse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5435640" y="1557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5508720" y="386064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012000" y="2637000"/>
            <a:ext cx="24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R-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AR-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6"/>
          <p:cNvSpPr/>
          <p:nvPr/>
        </p:nvSpPr>
        <p:spPr>
          <a:xfrm>
            <a:off x="4067280" y="3284640"/>
            <a:ext cx="1944720" cy="23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7"/>
          <p:cNvSpPr/>
          <p:nvPr/>
        </p:nvSpPr>
        <p:spPr>
          <a:xfrm>
            <a:off x="7596360" y="3860640"/>
            <a:ext cx="647640" cy="6588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"/>
          <p:cNvPicPr/>
          <p:nvPr/>
        </p:nvPicPr>
        <p:blipFill>
          <a:blip r:embed="rId2"/>
          <a:srcRect l="21523" t="8955" r="26879" b="75693"/>
          <a:stretch/>
        </p:blipFill>
        <p:spPr>
          <a:xfrm>
            <a:off x="5219640" y="486900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69" name="Oval 19"/>
          <p:cNvSpPr/>
          <p:nvPr/>
        </p:nvSpPr>
        <p:spPr>
          <a:xfrm>
            <a:off x="5219640" y="5229360"/>
            <a:ext cx="863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 -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Fu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9 CuadroTexto"/>
          <p:cNvSpPr/>
          <p:nvPr/>
        </p:nvSpPr>
        <p:spPr>
          <a:xfrm>
            <a:off x="20160" y="1214280"/>
            <a:ext cx="52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RECIMIENTO Y REGEN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 CÉLULAS EPI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0 CuadroTexto"/>
          <p:cNvSpPr/>
          <p:nvPr/>
        </p:nvSpPr>
        <p:spPr>
          <a:xfrm>
            <a:off x="157680" y="6000840"/>
            <a:ext cx="477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FR: proteína fijadora de Reti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FR: proteína celular fijadora de Reti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FAR: proteína celular fijadora de Ac Ret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CuadroTexto"/>
          <p:cNvSpPr/>
          <p:nvPr/>
        </p:nvSpPr>
        <p:spPr>
          <a:xfrm>
            <a:off x="2003400" y="1357200"/>
            <a:ext cx="2163240" cy="45972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1-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Re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CuadroTexto"/>
          <p:cNvSpPr/>
          <p:nvPr/>
        </p:nvSpPr>
        <p:spPr>
          <a:xfrm>
            <a:off x="6008760" y="242892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5 CuadroTexto"/>
          <p:cNvSpPr/>
          <p:nvPr/>
        </p:nvSpPr>
        <p:spPr>
          <a:xfrm>
            <a:off x="5432040" y="1428840"/>
            <a:ext cx="2873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Re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6 CuadroTexto"/>
          <p:cNvSpPr/>
          <p:nvPr/>
        </p:nvSpPr>
        <p:spPr>
          <a:xfrm>
            <a:off x="3584160" y="3071880"/>
            <a:ext cx="270612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ODOP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Arial"/>
              </a:rPr>
              <a:t>(pigmento vi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8 CuadroTexto"/>
          <p:cNvSpPr/>
          <p:nvPr/>
        </p:nvSpPr>
        <p:spPr>
          <a:xfrm>
            <a:off x="6082920" y="4572000"/>
            <a:ext cx="2285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mpulso nerv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nervio ópt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9 CuadroTexto"/>
          <p:cNvSpPr/>
          <p:nvPr/>
        </p:nvSpPr>
        <p:spPr>
          <a:xfrm>
            <a:off x="2221200" y="2487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857240" y="4214880"/>
            <a:ext cx="1643040" cy="1357200"/>
          </a:xfrm>
          <a:prstGeom prst="irregularSeal1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aja intensida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3786120" y="5572080"/>
            <a:ext cx="2428920" cy="1081080"/>
          </a:xfrm>
          <a:custGeom>
            <a:avLst/>
            <a:gdLst>
              <a:gd name="textAreaLeft" fmla="*/ 0 w 2428920"/>
              <a:gd name="textAreaRight" fmla="*/ 2429280 w 242892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66"/>
                </a:solidFill>
                <a:latin typeface="Arial"/>
              </a:rPr>
              <a:t>VISION NOCTU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14 Conector recto de flecha"/>
          <p:cNvCxnSpPr/>
          <p:nvPr/>
        </p:nvCxnSpPr>
        <p:spPr>
          <a:xfrm>
            <a:off x="3357720" y="1856880"/>
            <a:ext cx="786240" cy="100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15 Conector recto de flecha"/>
          <p:cNvCxnSpPr/>
          <p:nvPr/>
        </p:nvCxnSpPr>
        <p:spPr>
          <a:xfrm flipV="1">
            <a:off x="5142600" y="1856520"/>
            <a:ext cx="857880" cy="100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21 Arco"/>
          <p:cNvSpPr/>
          <p:nvPr/>
        </p:nvSpPr>
        <p:spPr>
          <a:xfrm>
            <a:off x="2786040" y="2000160"/>
            <a:ext cx="928800" cy="7858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22 Flecha curvada hacia abajo"/>
          <p:cNvSpPr/>
          <p:nvPr/>
        </p:nvSpPr>
        <p:spPr>
          <a:xfrm>
            <a:off x="5357880" y="2357280"/>
            <a:ext cx="642960" cy="357480"/>
          </a:xfrm>
          <a:custGeom>
            <a:avLst/>
            <a:gdLst>
              <a:gd name="textAreaLeft" fmla="*/ 127080 w 642960"/>
              <a:gd name="textAreaRight" fmla="*/ 471240 w 64296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0" hR="21600" stAng="10800000" swAng="5400000"/>
                <a:lnTo>
                  <a:pt x="11550" y="0"/>
                </a:lnTo>
                <a:arcTo wR="8550" hR="21600" stAng="-5400000" swAng="3413035"/>
                <a:lnTo>
                  <a:pt x="21329" y="16200"/>
                </a:lnTo>
                <a:lnTo>
                  <a:pt x="18600" y="21600"/>
                </a:lnTo>
                <a:lnTo>
                  <a:pt x="15329" y="16200"/>
                </a:lnTo>
                <a:lnTo>
                  <a:pt x="16829" y="16200"/>
                </a:lnTo>
                <a:arcTo wR="8550" hR="21600" stAng="-1986965" swAng="-3170942"/>
                <a:lnTo>
                  <a:pt x="10050" y="335"/>
                </a:lnTo>
                <a:arcTo wR="8550" hR="21600" stAng="-5642092" swAng="-5157908"/>
                <a:close/>
              </a:path>
              <a:path fill="darkenLess" w="21600" h="21600">
                <a:moveTo>
                  <a:pt x="0" y="21600"/>
                </a:moveTo>
                <a:arcTo wR="8550" hR="21600" stAng="10800000" swAng="5400000"/>
                <a:lnTo>
                  <a:pt x="8550" y="0"/>
                </a:lnTo>
                <a:arcTo wR="8550" hR="21600" stAng="-5400000" swAng="242092"/>
                <a:lnTo>
                  <a:pt x="10050" y="335"/>
                </a:lnTo>
                <a:arcTo wR="8550" hR="21600" stAng="-5642092" swAng="-5157908"/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25 Conector recto de flecha"/>
          <p:cNvCxnSpPr/>
          <p:nvPr/>
        </p:nvCxnSpPr>
        <p:spPr>
          <a:xfrm flipH="1">
            <a:off x="4214160" y="1641960"/>
            <a:ext cx="1143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30 Rayo"/>
          <p:cNvSpPr/>
          <p:nvPr/>
        </p:nvSpPr>
        <p:spPr>
          <a:xfrm rot="15372000">
            <a:off x="3332520" y="3977280"/>
            <a:ext cx="750960" cy="8316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2 CuadroTexto"/>
          <p:cNvSpPr/>
          <p:nvPr/>
        </p:nvSpPr>
        <p:spPr>
          <a:xfrm>
            <a:off x="7072200" y="5886360"/>
            <a:ext cx="116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re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33 Conector recto de flecha"/>
          <p:cNvCxnSpPr/>
          <p:nvPr/>
        </p:nvCxnSpPr>
        <p:spPr>
          <a:xfrm flipH="1">
            <a:off x="6214320" y="6143760"/>
            <a:ext cx="857880" cy="72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34 Conector recto de flecha"/>
          <p:cNvCxnSpPr/>
          <p:nvPr/>
        </p:nvCxnSpPr>
        <p:spPr>
          <a:xfrm>
            <a:off x="6000840" y="4000320"/>
            <a:ext cx="3578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36 Conector recto de flecha"/>
          <p:cNvCxnSpPr/>
          <p:nvPr/>
        </p:nvCxnSpPr>
        <p:spPr>
          <a:xfrm flipH="1">
            <a:off x="7571520" y="5216400"/>
            <a:ext cx="252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39 CuadroTexto"/>
          <p:cNvSpPr/>
          <p:nvPr/>
        </p:nvSpPr>
        <p:spPr>
          <a:xfrm>
            <a:off x="857160" y="855720"/>
            <a:ext cx="7929720" cy="594612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85840" y="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c00000"/>
                </a:solidFill>
                <a:latin typeface="Comic Sans MS"/>
              </a:rPr>
              <a:t>y la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42 Cilindro"/>
          <p:cNvSpPr/>
          <p:nvPr/>
        </p:nvSpPr>
        <p:spPr>
          <a:xfrm>
            <a:off x="7215120" y="2928960"/>
            <a:ext cx="357120" cy="1500120"/>
          </a:xfrm>
          <a:prstGeom prst="can">
            <a:avLst>
              <a:gd name="adj" fmla="val 5953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3 Rectángulo"/>
          <p:cNvSpPr/>
          <p:nvPr/>
        </p:nvSpPr>
        <p:spPr>
          <a:xfrm>
            <a:off x="6518520" y="3071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(bastoncillos-Re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ojo"/>
          <p:cNvPicPr/>
          <p:nvPr/>
        </p:nvPicPr>
        <p:blipFill>
          <a:blip r:embed="rId1"/>
          <a:stretch/>
        </p:blipFill>
        <p:spPr>
          <a:xfrm>
            <a:off x="1000080" y="2928960"/>
            <a:ext cx="16732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4"/>
          <p:cNvSpPr/>
          <p:nvPr/>
        </p:nvSpPr>
        <p:spPr>
          <a:xfrm>
            <a:off x="179280" y="911160"/>
            <a:ext cx="3456000" cy="216072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RETINO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 flipV="1">
            <a:off x="3635280" y="106524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5143680" y="704880"/>
            <a:ext cx="1800000" cy="1224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643200" y="2136600"/>
            <a:ext cx="115092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932360" y="2147760"/>
            <a:ext cx="3887640" cy="106884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INTESIS DE GLICO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6659640" y="334332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211640" y="5229360"/>
            <a:ext cx="453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TENIMIENTO DE LOS EPITE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000"/>
            </a:b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VITAMINA A</a:t>
            </a: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c00000"/>
                </a:solidFill>
                <a:latin typeface="Comic Sans MS"/>
              </a:rPr>
              <a:t>Metabo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VEGET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arot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pinaca, Acelg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Zanahorias, Zapallo, Batata, Tomate, Durazno, Damasco, Maíz 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NIM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Retinol libre ó Esterificado c/ AG de cadena l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ígado, Leche, manteca, Huevo, Riñón, Músculo.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Pec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Hígado de bacalao y tibur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zanahoria"/>
          <p:cNvPicPr/>
          <p:nvPr/>
        </p:nvPicPr>
        <p:blipFill>
          <a:blip r:embed="rId1"/>
          <a:stretch/>
        </p:blipFill>
        <p:spPr>
          <a:xfrm>
            <a:off x="7643880" y="1714680"/>
            <a:ext cx="1263600" cy="1666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images"/>
          <p:cNvPicPr/>
          <p:nvPr/>
        </p:nvPicPr>
        <p:blipFill>
          <a:blip r:embed="rId2"/>
          <a:stretch/>
        </p:blipFill>
        <p:spPr>
          <a:xfrm>
            <a:off x="7643880" y="5619600"/>
            <a:ext cx="1238040" cy="1238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VITAMINA A -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u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4360" y="2492280"/>
            <a:ext cx="82296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 Normal: 1000 UI (=1 mg.retinol/d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n lactancia 1.5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° Año de vida: 4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-10 años: 400-7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268280"/>
            <a:ext cx="9144000" cy="1092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000000"/>
                </a:solidFill>
                <a:uFillTx/>
                <a:latin typeface="Arial"/>
              </a:rPr>
              <a:t>Unidades Internacionales (UI)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retinal todo trans 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de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-carot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16000" y="4795920"/>
            <a:ext cx="338436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0" y="595008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3635280" y="5084640"/>
            <a:ext cx="144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4282920" y="6308640"/>
            <a:ext cx="36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680000" y="5473800"/>
            <a:ext cx="44640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iel, membranas                  de mucosa y pérdida         del cab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 rot="3796800">
            <a:off x="4026960" y="5947920"/>
            <a:ext cx="1295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072040" y="4214880"/>
            <a:ext cx="388944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guera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iel r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3600"/>
            </a:b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VITAMINA A -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c00000"/>
                </a:solidFill>
                <a:latin typeface="Comic Sans MS"/>
              </a:rPr>
              <a:t>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9000"/>
            <a:ext cx="9144000" cy="342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constituyentes de los ali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necesarios para mantener las funciones v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440" y="1928880"/>
            <a:ext cx="86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Arial"/>
                <a:ea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2d2d8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d8a"/>
                </a:solidFill>
                <a:latin typeface="Arial"/>
                <a:ea typeface="Arial"/>
              </a:rPr>
              <a:t>En función de la cantidad necesaria para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4200" y="29289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000000"/>
                </a:solidFill>
                <a:latin typeface="Arial"/>
              </a:rPr>
              <a:t>PROTEÍ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000000"/>
                </a:solidFill>
                <a:latin typeface="Arial"/>
              </a:rPr>
              <a:t>LÍP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2968560"/>
            <a:ext cx="431964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270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c00000"/>
                </a:solidFill>
                <a:latin typeface="Arial"/>
              </a:rPr>
              <a:t>VITAM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270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baseline="10000">
                <a:solidFill>
                  <a:srgbClr val="c00000"/>
                </a:solidFill>
                <a:latin typeface="Arial"/>
              </a:rPr>
              <a:t>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70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10000">
                <a:solidFill>
                  <a:srgbClr val="000000"/>
                </a:solidFill>
                <a:latin typeface="Arial"/>
              </a:rPr>
              <a:t>OLIGO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5840" y="2928960"/>
            <a:ext cx="39607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(gr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786200" y="3000240"/>
            <a:ext cx="39610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Symbol"/>
                <a:ea typeface="Symbol"/>
              </a:rPr>
              <a:t></a:t>
            </a:r>
            <a:r>
              <a:rPr b="1" i="1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g-mg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vitaminaD"/>
          <p:cNvPicPr/>
          <p:nvPr/>
        </p:nvPicPr>
        <p:blipFill>
          <a:blip r:embed="rId1"/>
          <a:stretch/>
        </p:blipFill>
        <p:spPr>
          <a:xfrm>
            <a:off x="457200" y="2527200"/>
            <a:ext cx="8229600" cy="26701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428760" y="0"/>
            <a:ext cx="8358120" cy="185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VITAMINA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000"/>
                </a:solidFill>
                <a:latin typeface="Arial"/>
              </a:rPr>
              <a:t>Sinónimos: calciferol, Vit antirraqu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2786040" y="5715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 CuadroTexto"/>
          <p:cNvSpPr/>
          <p:nvPr/>
        </p:nvSpPr>
        <p:spPr>
          <a:xfrm>
            <a:off x="2296800" y="5357880"/>
            <a:ext cx="588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RIVADA DEL C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SINTETIZADA  POR EL ORGANISMO MAY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LMACENADA EN HÍG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2406600" y="500040"/>
            <a:ext cx="45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recursor de importantes biomolé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6 CuadroTexto"/>
          <p:cNvSpPr/>
          <p:nvPr/>
        </p:nvSpPr>
        <p:spPr>
          <a:xfrm>
            <a:off x="178920" y="0"/>
            <a:ext cx="89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      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REPASEMOS……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CuadroTexto"/>
          <p:cNvSpPr/>
          <p:nvPr/>
        </p:nvSpPr>
        <p:spPr>
          <a:xfrm>
            <a:off x="3727080" y="1143000"/>
            <a:ext cx="2261160" cy="4597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CuadroTexto"/>
          <p:cNvSpPr/>
          <p:nvPr/>
        </p:nvSpPr>
        <p:spPr>
          <a:xfrm>
            <a:off x="428760" y="1071720"/>
            <a:ext cx="16794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esteroi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2 CuadroTexto"/>
          <p:cNvSpPr/>
          <p:nvPr/>
        </p:nvSpPr>
        <p:spPr>
          <a:xfrm>
            <a:off x="7286760" y="1000080"/>
            <a:ext cx="13572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3 CuadroTexto"/>
          <p:cNvSpPr/>
          <p:nvPr/>
        </p:nvSpPr>
        <p:spPr>
          <a:xfrm>
            <a:off x="4502520" y="1928880"/>
            <a:ext cx="759960" cy="398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  <a:ea typeface="Arial"/>
              </a:rPr>
              <a:t>Vi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5 Conector recto"/>
          <p:cNvSpPr/>
          <p:nvPr/>
        </p:nvSpPr>
        <p:spPr>
          <a:xfrm flipH="1" flipV="1">
            <a:off x="2214360" y="1213920"/>
            <a:ext cx="1500120" cy="15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1 Conector recto"/>
          <p:cNvSpPr/>
          <p:nvPr/>
        </p:nvSpPr>
        <p:spPr>
          <a:xfrm flipV="1">
            <a:off x="6000840" y="1213920"/>
            <a:ext cx="121428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600" y="2560680"/>
            <a:ext cx="3675240" cy="4270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2428920" y="2214720"/>
            <a:ext cx="1928880" cy="1536480"/>
          </a:xfrm>
          <a:prstGeom prst="rect">
            <a:avLst/>
          </a:prstGeom>
          <a:ln w="0">
            <a:noFill/>
          </a:ln>
        </p:spPr>
      </p:pic>
      <p:sp>
        <p:nvSpPr>
          <p:cNvPr id="232" name="41 Conector recto"/>
          <p:cNvSpPr/>
          <p:nvPr/>
        </p:nvSpPr>
        <p:spPr>
          <a:xfrm>
            <a:off x="4857840" y="1604880"/>
            <a:ext cx="23760" cy="324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http://ocw.innova.uned.es/biologia/contenidos/bio/img/esteroides.jpg"/>
          <p:cNvPicPr/>
          <p:nvPr/>
        </p:nvPicPr>
        <p:blipFill>
          <a:blip r:embed="rId3"/>
          <a:stretch/>
        </p:blipFill>
        <p:spPr>
          <a:xfrm>
            <a:off x="4210200" y="3357720"/>
            <a:ext cx="4933800" cy="3181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http://www.metabolismo.biz/web/wp-content/uploads/Fig-2-Acidos-biliares.gif"/>
          <p:cNvPicPr/>
          <p:nvPr/>
        </p:nvPicPr>
        <p:blipFill>
          <a:blip r:embed="rId4"/>
          <a:stretch/>
        </p:blipFill>
        <p:spPr>
          <a:xfrm>
            <a:off x="6726240" y="1857240"/>
            <a:ext cx="4703760" cy="1285920"/>
          </a:xfrm>
          <a:prstGeom prst="rect">
            <a:avLst/>
          </a:prstGeom>
          <a:ln w="0">
            <a:noFill/>
          </a:ln>
        </p:spPr>
      </p:pic>
      <p:sp>
        <p:nvSpPr>
          <p:cNvPr id="235" name="61 Conector recto"/>
          <p:cNvSpPr/>
          <p:nvPr/>
        </p:nvSpPr>
        <p:spPr>
          <a:xfrm flipV="1">
            <a:off x="1712160" y="1785600"/>
            <a:ext cx="1800" cy="785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6 Elipse"/>
          <p:cNvSpPr/>
          <p:nvPr/>
        </p:nvSpPr>
        <p:spPr>
          <a:xfrm>
            <a:off x="4429080" y="1714680"/>
            <a:ext cx="914400" cy="914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7 Elipse"/>
          <p:cNvSpPr/>
          <p:nvPr/>
        </p:nvSpPr>
        <p:spPr>
          <a:xfrm>
            <a:off x="6500880" y="4786200"/>
            <a:ext cx="2714400" cy="20718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9640" y="2033640"/>
            <a:ext cx="828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Esencial para el crecimiento y desarrollo normal de los h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Participa en la absorción del calcio y fósf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10 a 15 minutos de exposición al sol bastan para sintetizarla a nivel de la 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Ayuda al sistema inmu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VITAMINA D  -  </a:t>
            </a:r>
            <a:r>
              <a:rPr b="1" lang="es-AR" sz="4000" spc="-1" strike="noStrike">
                <a:solidFill>
                  <a:srgbClr val="008000"/>
                </a:solidFill>
                <a:latin typeface="Comic Sans MS"/>
              </a:rPr>
              <a:t>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0" y="2852640"/>
            <a:ext cx="4067280" cy="113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COLECALCIFEROL ó Vit D</a:t>
            </a:r>
            <a:r>
              <a:rPr b="1" lang="es-AR" sz="32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(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716360" y="2500200"/>
            <a:ext cx="4248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1, 25-dihidroxiC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ó Calcitr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5280" y="1125360"/>
            <a:ext cx="309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643040" y="164304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714680" y="250020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2214720" y="2214720"/>
            <a:ext cx="1439640" cy="7920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000680" y="3143160"/>
            <a:ext cx="936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1403280" y="4005360"/>
            <a:ext cx="5832720" cy="165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3"/>
          <p:cNvGrpSpPr/>
          <p:nvPr/>
        </p:nvGrpSpPr>
        <p:grpSpPr>
          <a:xfrm>
            <a:off x="7451640" y="3716280"/>
            <a:ext cx="1331280" cy="2809440"/>
            <a:chOff x="7451640" y="3716280"/>
            <a:chExt cx="1331280" cy="2809440"/>
          </a:xfrm>
        </p:grpSpPr>
        <p:pic>
          <p:nvPicPr>
            <p:cNvPr id="249" name="Picture 17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7451640" y="37162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20"/>
            <p:cNvSpPr/>
            <p:nvPr/>
          </p:nvSpPr>
          <p:spPr>
            <a:xfrm>
              <a:off x="7451640" y="4839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8516520" y="493200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Oval 8"/>
          <p:cNvSpPr/>
          <p:nvPr/>
        </p:nvSpPr>
        <p:spPr>
          <a:xfrm>
            <a:off x="6804000" y="4941720"/>
            <a:ext cx="1944720" cy="1511640"/>
          </a:xfrm>
          <a:prstGeom prst="ellipse">
            <a:avLst/>
          </a:prstGeom>
          <a:solidFill>
            <a:srgbClr val="bbe0e3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3200"/>
            </a:br>
            <a:r>
              <a:rPr b="1" lang="es-AR" sz="3200" spc="-1" strike="noStrike">
                <a:solidFill>
                  <a:srgbClr val="008000"/>
                </a:solidFill>
                <a:latin typeface="Arial"/>
              </a:rPr>
              <a:t>VITAMINA D –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ormas activas-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5 CuadroTexto"/>
          <p:cNvSpPr/>
          <p:nvPr/>
        </p:nvSpPr>
        <p:spPr>
          <a:xfrm>
            <a:off x="298440" y="2000160"/>
            <a:ext cx="51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PROVITAMINA  D</a:t>
            </a:r>
            <a:r>
              <a:rPr b="1" lang="es-ES_tradnl" sz="2000" spc="-1" strike="noStrike" baseline="-25000">
                <a:solidFill>
                  <a:srgbClr val="2d2d8a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7-Des-Hidro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uadroTexto"/>
          <p:cNvSpPr/>
          <p:nvPr/>
        </p:nvSpPr>
        <p:spPr>
          <a:xfrm>
            <a:off x="3510000" y="33577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droxi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5"/>
          <p:cNvSpPr/>
          <p:nvPr/>
        </p:nvSpPr>
        <p:spPr>
          <a:xfrm>
            <a:off x="2411280" y="2852640"/>
            <a:ext cx="3461040" cy="23767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6084720" y="3429000"/>
            <a:ext cx="1755720" cy="2268360"/>
            <a:chOff x="6084720" y="3429000"/>
            <a:chExt cx="1755720" cy="2268360"/>
          </a:xfrm>
        </p:grpSpPr>
        <p:sp>
          <p:nvSpPr>
            <p:cNvPr id="258" name="Freeform 9"/>
            <p:cNvSpPr/>
            <p:nvPr/>
          </p:nvSpPr>
          <p:spPr>
            <a:xfrm>
              <a:off x="6084720" y="342900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6905520" y="416052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7056360" y="450828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2"/>
          <p:cNvGrpSpPr/>
          <p:nvPr/>
        </p:nvGrpSpPr>
        <p:grpSpPr>
          <a:xfrm>
            <a:off x="468360" y="4581360"/>
            <a:ext cx="1344600" cy="1871640"/>
            <a:chOff x="468360" y="4581360"/>
            <a:chExt cx="1344600" cy="1871640"/>
          </a:xfrm>
        </p:grpSpPr>
        <p:sp>
          <p:nvSpPr>
            <p:cNvPr id="262" name="Freeform 13"/>
            <p:cNvSpPr/>
            <p:nvPr/>
          </p:nvSpPr>
          <p:spPr>
            <a:xfrm>
              <a:off x="468360" y="45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"/>
            <p:cNvSpPr/>
            <p:nvPr/>
          </p:nvSpPr>
          <p:spPr>
            <a:xfrm>
              <a:off x="731880" y="45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5"/>
          <p:cNvSpPr/>
          <p:nvPr/>
        </p:nvSpPr>
        <p:spPr>
          <a:xfrm rot="19789800">
            <a:off x="360" y="3860280"/>
            <a:ext cx="2627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 rot="3768600">
            <a:off x="6622200" y="2968200"/>
            <a:ext cx="153684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4"/>
          <p:cNvSpPr/>
          <p:nvPr/>
        </p:nvSpPr>
        <p:spPr>
          <a:xfrm flipH="1">
            <a:off x="3851280" y="1773360"/>
            <a:ext cx="14414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5"/>
          <p:cNvSpPr/>
          <p:nvPr/>
        </p:nvSpPr>
        <p:spPr>
          <a:xfrm>
            <a:off x="0" y="2357280"/>
            <a:ext cx="3071880" cy="1000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t fij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3564000" y="2997360"/>
            <a:ext cx="865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2556000" y="4145040"/>
            <a:ext cx="22320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5-HO-D</a:t>
            </a:r>
            <a:r>
              <a:rPr b="1" lang="es-AR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>
            <a:off x="5146560" y="422100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8"/>
          <p:cNvSpPr/>
          <p:nvPr/>
        </p:nvSpPr>
        <p:spPr>
          <a:xfrm>
            <a:off x="3419640" y="37227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9"/>
          <p:cNvSpPr/>
          <p:nvPr/>
        </p:nvSpPr>
        <p:spPr>
          <a:xfrm>
            <a:off x="6659640" y="465300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1"/>
          <p:cNvSpPr/>
          <p:nvPr/>
        </p:nvSpPr>
        <p:spPr>
          <a:xfrm>
            <a:off x="5580000" y="4724280"/>
            <a:ext cx="792360" cy="10065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H="1">
            <a:off x="1908000" y="5229360"/>
            <a:ext cx="3672000" cy="3585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 rot="20864400">
            <a:off x="1884240" y="5444640"/>
            <a:ext cx="30974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ptación Ca</a:t>
            </a:r>
            <a:r>
              <a:rPr b="1" lang="es-AR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5"/>
          <p:cNvSpPr/>
          <p:nvPr/>
        </p:nvSpPr>
        <p:spPr>
          <a:xfrm>
            <a:off x="3851280" y="6165720"/>
            <a:ext cx="1944720" cy="58140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6"/>
          <p:cNvSpPr/>
          <p:nvPr/>
        </p:nvSpPr>
        <p:spPr>
          <a:xfrm flipH="1">
            <a:off x="5435640" y="5373720"/>
            <a:ext cx="792000" cy="720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7"/>
          <p:cNvSpPr/>
          <p:nvPr/>
        </p:nvSpPr>
        <p:spPr>
          <a:xfrm>
            <a:off x="6143760" y="5877000"/>
            <a:ext cx="305892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sorción O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6"/>
          <p:cNvSpPr/>
          <p:nvPr/>
        </p:nvSpPr>
        <p:spPr>
          <a:xfrm flipV="1">
            <a:off x="258840" y="1355760"/>
            <a:ext cx="669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6"/>
          <p:cNvGrpSpPr/>
          <p:nvPr/>
        </p:nvGrpSpPr>
        <p:grpSpPr>
          <a:xfrm>
            <a:off x="360360" y="1787400"/>
            <a:ext cx="3292560" cy="557280"/>
            <a:chOff x="360360" y="1787400"/>
            <a:chExt cx="3292560" cy="557280"/>
          </a:xfrm>
        </p:grpSpPr>
        <p:sp>
          <p:nvSpPr>
            <p:cNvPr id="281" name="Freeform 41"/>
            <p:cNvSpPr/>
            <p:nvPr/>
          </p:nvSpPr>
          <p:spPr>
            <a:xfrm>
              <a:off x="36036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2"/>
            <p:cNvSpPr/>
            <p:nvPr/>
          </p:nvSpPr>
          <p:spPr>
            <a:xfrm>
              <a:off x="101916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3"/>
            <p:cNvSpPr/>
            <p:nvPr/>
          </p:nvSpPr>
          <p:spPr>
            <a:xfrm>
              <a:off x="169884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4"/>
            <p:cNvSpPr/>
            <p:nvPr/>
          </p:nvSpPr>
          <p:spPr>
            <a:xfrm>
              <a:off x="23464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5"/>
            <p:cNvSpPr/>
            <p:nvPr/>
          </p:nvSpPr>
          <p:spPr>
            <a:xfrm>
              <a:off x="299556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643200" y="1787400"/>
            <a:ext cx="3292560" cy="557280"/>
            <a:chOff x="3643200" y="1787400"/>
            <a:chExt cx="3292560" cy="557280"/>
          </a:xfrm>
        </p:grpSpPr>
        <p:sp>
          <p:nvSpPr>
            <p:cNvPr id="287" name="Freeform 48"/>
            <p:cNvSpPr/>
            <p:nvPr/>
          </p:nvSpPr>
          <p:spPr>
            <a:xfrm>
              <a:off x="364320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9"/>
            <p:cNvSpPr/>
            <p:nvPr/>
          </p:nvSpPr>
          <p:spPr>
            <a:xfrm>
              <a:off x="430200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0"/>
            <p:cNvSpPr/>
            <p:nvPr/>
          </p:nvSpPr>
          <p:spPr>
            <a:xfrm>
              <a:off x="49816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1"/>
            <p:cNvSpPr/>
            <p:nvPr/>
          </p:nvSpPr>
          <p:spPr>
            <a:xfrm>
              <a:off x="562932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2"/>
            <p:cNvSpPr/>
            <p:nvPr/>
          </p:nvSpPr>
          <p:spPr>
            <a:xfrm>
              <a:off x="627840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53"/>
          <p:cNvSpPr/>
          <p:nvPr/>
        </p:nvSpPr>
        <p:spPr>
          <a:xfrm>
            <a:off x="108000" y="907920"/>
            <a:ext cx="934920" cy="58140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8"/>
          <p:cNvSpPr/>
          <p:nvPr/>
        </p:nvSpPr>
        <p:spPr>
          <a:xfrm>
            <a:off x="395280" y="1484280"/>
            <a:ext cx="36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-DH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5364000" y="1413000"/>
            <a:ext cx="356400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LECALCIFEROL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CC, Vit D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0"/>
          <p:cNvSpPr/>
          <p:nvPr/>
        </p:nvSpPr>
        <p:spPr>
          <a:xfrm>
            <a:off x="4071960" y="785880"/>
            <a:ext cx="1008000" cy="863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2"/>
          <p:cNvSpPr/>
          <p:nvPr/>
        </p:nvSpPr>
        <p:spPr>
          <a:xfrm>
            <a:off x="4068720" y="1708200"/>
            <a:ext cx="934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4"/>
          <p:cNvSpPr/>
          <p:nvPr/>
        </p:nvSpPr>
        <p:spPr>
          <a:xfrm>
            <a:off x="6300720" y="4076640"/>
            <a:ext cx="22320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5-HO-D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5"/>
          <p:cNvSpPr/>
          <p:nvPr/>
        </p:nvSpPr>
        <p:spPr>
          <a:xfrm>
            <a:off x="6300720" y="5013360"/>
            <a:ext cx="25923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,25-(HO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357120" y="0"/>
            <a:ext cx="851544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2800" spc="-1" strike="noStrike">
                <a:solidFill>
                  <a:srgbClr val="008000"/>
                </a:solidFill>
                <a:latin typeface="Arial"/>
              </a:rPr>
              <a:t>VITAMINA D– </a:t>
            </a:r>
            <a:r>
              <a:rPr b="1" lang="es-AR" sz="2800" spc="-1" strike="noStrike">
                <a:solidFill>
                  <a:srgbClr val="008000"/>
                </a:solidFill>
                <a:latin typeface="Comic Sans MS"/>
              </a:rPr>
              <a:t>Síntesis-Metabolismo-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45 CuadroTexto"/>
          <p:cNvSpPr/>
          <p:nvPr/>
        </p:nvSpPr>
        <p:spPr>
          <a:xfrm>
            <a:off x="3507840" y="36432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dr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47 CuadroTexto"/>
          <p:cNvSpPr/>
          <p:nvPr/>
        </p:nvSpPr>
        <p:spPr>
          <a:xfrm>
            <a:off x="6722640" y="464328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idr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48 Flecha arriba"/>
          <p:cNvSpPr/>
          <p:nvPr/>
        </p:nvSpPr>
        <p:spPr>
          <a:xfrm>
            <a:off x="6000840" y="5857920"/>
            <a:ext cx="285840" cy="57132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49 Flecha arriba"/>
          <p:cNvSpPr/>
          <p:nvPr/>
        </p:nvSpPr>
        <p:spPr>
          <a:xfrm>
            <a:off x="1714680" y="5715000"/>
            <a:ext cx="285480" cy="57168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4"/>
          <p:cNvSpPr/>
          <p:nvPr/>
        </p:nvSpPr>
        <p:spPr>
          <a:xfrm>
            <a:off x="1979640" y="476280"/>
            <a:ext cx="5040360" cy="446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95280" y="2708280"/>
            <a:ext cx="259236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ELULA 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Intestino, hueso, riñón, 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565440" y="112392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1"/>
          <a:srcRect l="21523" t="8955" r="26879" b="75693"/>
          <a:stretch/>
        </p:blipFill>
        <p:spPr>
          <a:xfrm>
            <a:off x="3276720" y="213192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308" name="Oval 10"/>
          <p:cNvSpPr/>
          <p:nvPr/>
        </p:nvSpPr>
        <p:spPr>
          <a:xfrm>
            <a:off x="3276720" y="2492280"/>
            <a:ext cx="86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5500800" y="2997360"/>
            <a:ext cx="712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29120" y="5373720"/>
            <a:ext cx="158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2700360" y="5157720"/>
            <a:ext cx="1728720" cy="115092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 flipV="1">
            <a:off x="1907640" y="5084640"/>
            <a:ext cx="721080" cy="432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79280" y="4653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 ó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steoc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9"/>
          <p:cNvSpPr/>
          <p:nvPr/>
        </p:nvSpPr>
        <p:spPr>
          <a:xfrm>
            <a:off x="3132000" y="404640"/>
            <a:ext cx="1368720" cy="11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"/>
          <p:cNvSpPr/>
          <p:nvPr/>
        </p:nvSpPr>
        <p:spPr>
          <a:xfrm flipH="1">
            <a:off x="2050560" y="5950080"/>
            <a:ext cx="57636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5 CuadroTexto"/>
          <p:cNvSpPr/>
          <p:nvPr/>
        </p:nvSpPr>
        <p:spPr>
          <a:xfrm>
            <a:off x="6442920" y="0"/>
            <a:ext cx="22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can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 Vit 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5"/>
          <p:cNvSpPr/>
          <p:nvPr/>
        </p:nvSpPr>
        <p:spPr>
          <a:xfrm>
            <a:off x="285840" y="285840"/>
            <a:ext cx="2592360" cy="57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,25-(HO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929280" y="5214960"/>
            <a:ext cx="1928880" cy="11509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t. fij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9 Conector recto"/>
          <p:cNvSpPr/>
          <p:nvPr/>
        </p:nvSpPr>
        <p:spPr>
          <a:xfrm>
            <a:off x="6513480" y="5664240"/>
            <a:ext cx="344520" cy="5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21 Conector recto"/>
          <p:cNvSpPr/>
          <p:nvPr/>
        </p:nvSpPr>
        <p:spPr>
          <a:xfrm flipH="1">
            <a:off x="4500720" y="5661720"/>
            <a:ext cx="428400" cy="1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3 CuadroTexto"/>
          <p:cNvSpPr/>
          <p:nvPr/>
        </p:nvSpPr>
        <p:spPr>
          <a:xfrm>
            <a:off x="433440" y="3286080"/>
            <a:ext cx="2800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CAL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6 CuadroTexto"/>
          <p:cNvSpPr/>
          <p:nvPr/>
        </p:nvSpPr>
        <p:spPr>
          <a:xfrm>
            <a:off x="4071960" y="1357200"/>
            <a:ext cx="3857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AP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INT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VITAMINA D  -  </a:t>
            </a:r>
            <a:r>
              <a:rPr b="1" lang="es-AR" sz="4000" spc="-1" strike="noStrike">
                <a:solidFill>
                  <a:srgbClr val="008000"/>
                </a:solidFill>
                <a:latin typeface="Comic Sans MS"/>
              </a:rPr>
              <a:t>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8 Flecha arriba"/>
          <p:cNvSpPr/>
          <p:nvPr/>
        </p:nvSpPr>
        <p:spPr>
          <a:xfrm>
            <a:off x="4500720" y="1428840"/>
            <a:ext cx="285480" cy="571320"/>
          </a:xfrm>
          <a:prstGeom prst="up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1 CuadroTexto"/>
          <p:cNvSpPr/>
          <p:nvPr/>
        </p:nvSpPr>
        <p:spPr>
          <a:xfrm>
            <a:off x="4143240" y="3071880"/>
            <a:ext cx="3857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REABSOR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Arial"/>
              </a:rPr>
              <a:t>DESDE EL R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12 Flecha arriba"/>
          <p:cNvSpPr/>
          <p:nvPr/>
        </p:nvSpPr>
        <p:spPr>
          <a:xfrm>
            <a:off x="4500720" y="3214800"/>
            <a:ext cx="285480" cy="571320"/>
          </a:xfrm>
          <a:prstGeom prst="up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3 CuadroTexto"/>
          <p:cNvSpPr/>
          <p:nvPr/>
        </p:nvSpPr>
        <p:spPr>
          <a:xfrm>
            <a:off x="4071960" y="4786200"/>
            <a:ext cx="3857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RESOR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(Liberación</a:t>
            </a:r>
            <a:r>
              <a:rPr b="1" i="1" lang="es-ES_tradnl" sz="2400" spc="-1" strike="noStrike">
                <a:solidFill>
                  <a:srgbClr val="008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ESDE EL HU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14 Flecha arriba"/>
          <p:cNvSpPr/>
          <p:nvPr/>
        </p:nvSpPr>
        <p:spPr>
          <a:xfrm>
            <a:off x="4572000" y="4929120"/>
            <a:ext cx="285840" cy="571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16 CuadroTexto"/>
          <p:cNvSpPr/>
          <p:nvPr/>
        </p:nvSpPr>
        <p:spPr>
          <a:xfrm>
            <a:off x="14040" y="1571760"/>
            <a:ext cx="374832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1,25-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(1,25-OH-COLECALCIFE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(forma a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17 Rayo"/>
          <p:cNvSpPr/>
          <p:nvPr/>
        </p:nvSpPr>
        <p:spPr>
          <a:xfrm>
            <a:off x="1214280" y="2714760"/>
            <a:ext cx="785880" cy="571320"/>
          </a:xfrm>
          <a:prstGeom prst="lightningBol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20 Abrir llave"/>
          <p:cNvSpPr/>
          <p:nvPr/>
        </p:nvSpPr>
        <p:spPr>
          <a:xfrm>
            <a:off x="3500280" y="1357200"/>
            <a:ext cx="571680" cy="5214960"/>
          </a:xfrm>
          <a:custGeom>
            <a:avLst/>
            <a:gdLst>
              <a:gd name="textAreaLeft" fmla="*/ 365400 w 571680"/>
              <a:gd name="textAreaRight" fmla="*/ 572040 w 571680"/>
              <a:gd name="textAreaTop" fmla="*/ 246600 h 5214960"/>
              <a:gd name="textAreaBottom" fmla="*/ 4968360 h 521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3"/>
                  <a:pt x="10800" y="3266"/>
                </a:cubicBezTo>
                <a:lnTo>
                  <a:pt x="10800" y="7534"/>
                </a:lnTo>
                <a:cubicBezTo>
                  <a:pt x="10800" y="9167"/>
                  <a:pt x="5400" y="10800"/>
                  <a:pt x="0" y="10800"/>
                </a:cubicBezTo>
                <a:cubicBezTo>
                  <a:pt x="5400" y="10800"/>
                  <a:pt x="10800" y="12433"/>
                  <a:pt x="10800" y="14066"/>
                </a:cubicBezTo>
                <a:lnTo>
                  <a:pt x="10800" y="18334"/>
                </a:lnTo>
                <a:cubicBezTo>
                  <a:pt x="10800" y="19967"/>
                  <a:pt x="16200" y="21600"/>
                  <a:pt x="21600" y="21600"/>
                </a:cubicBezTo>
              </a:path>
            </a:pathLst>
          </a:custGeom>
          <a:solidFill>
            <a:srgbClr val="008000"/>
          </a:solidFill>
          <a:ln w="1908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22 CuadroTexto"/>
          <p:cNvSpPr/>
          <p:nvPr/>
        </p:nvSpPr>
        <p:spPr>
          <a:xfrm>
            <a:off x="0" y="5143680"/>
            <a:ext cx="36432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ANTIEN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ONCEN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E CAL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 un derivado del colesterol, no está presente en las plan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íntesis endógena (luz solar sobre la piel) –  Vegetarianos: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lert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eta: Aceites de hígado de pescado (colecalciferol), Leche y 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1" descr="pescado"/>
          <p:cNvPicPr/>
          <p:nvPr/>
        </p:nvPicPr>
        <p:blipFill>
          <a:blip r:embed="rId1"/>
          <a:stretch/>
        </p:blipFill>
        <p:spPr>
          <a:xfrm rot="19941600">
            <a:off x="6524640" y="4017960"/>
            <a:ext cx="2286000" cy="28764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3"/>
          <p:cNvSpPr/>
          <p:nvPr/>
        </p:nvSpPr>
        <p:spPr>
          <a:xfrm>
            <a:off x="357120" y="5500800"/>
            <a:ext cx="5786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QUERIMIENTO DIARIO 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: impreciso porque es sintetizada por el organismo (lactantes, niños y adultos 5-10 </a:t>
            </a:r>
            <a:r>
              <a:rPr b="1" lang="es-AR" sz="1800" spc="-1" strike="noStrike">
                <a:solidFill>
                  <a:srgbClr val="c00000"/>
                </a:solidFill>
                <a:latin typeface="Symbol"/>
                <a:ea typeface="Symbol"/>
              </a:rPr>
              <a:t>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/día Vit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5214960" y="2214720"/>
            <a:ext cx="3313080" cy="1008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6286680" y="2214720"/>
            <a:ext cx="1366560" cy="11523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6215400" y="2124720"/>
            <a:ext cx="1215360" cy="13114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008000"/>
                </a:solidFill>
                <a:latin typeface="Arial"/>
              </a:rPr>
              <a:t>VITAMINA D </a:t>
            </a: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uentes y  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16000" y="2500200"/>
            <a:ext cx="338436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450072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3635280" y="2643120"/>
            <a:ext cx="144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2040" y="2071800"/>
            <a:ext cx="388944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aqui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steomal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desmineralización ó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4680000" y="4334040"/>
            <a:ext cx="44640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umentan Ca y P en sangre y o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lcificaciones en tejidos bl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4354560" y="4786200"/>
            <a:ext cx="36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008000"/>
                </a:solidFill>
                <a:latin typeface="Arial"/>
              </a:rPr>
              <a:t>VITAMINA D </a:t>
            </a:r>
            <a:r>
              <a:rPr b="1" lang="es-AR" sz="40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Deficiencias-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250920" y="1413000"/>
            <a:ext cx="8642160" cy="4516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642960" y="0"/>
            <a:ext cx="8501040" cy="13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ff6600"/>
                </a:solidFill>
                <a:latin typeface="Arial"/>
              </a:rPr>
              <a:t>VITAMIN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Sinónimo: </a:t>
            </a:r>
            <a:r>
              <a:rPr b="1" lang="es-AR" sz="2800" spc="-1" strike="noStrike">
                <a:solidFill>
                  <a:srgbClr val="ff6600"/>
                </a:solidFill>
                <a:latin typeface="Comic Sans MS"/>
              </a:rPr>
              <a:t>Tocofe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428760" y="1762200"/>
            <a:ext cx="8167680" cy="3738600"/>
          </a:xfrm>
          <a:prstGeom prst="rect">
            <a:avLst/>
          </a:prstGeom>
          <a:ln w="0">
            <a:noFill/>
          </a:ln>
        </p:spPr>
      </p:pic>
      <p:sp>
        <p:nvSpPr>
          <p:cNvPr id="352" name="4 CuadroTexto"/>
          <p:cNvSpPr/>
          <p:nvPr/>
        </p:nvSpPr>
        <p:spPr>
          <a:xfrm>
            <a:off x="142560" y="6143760"/>
            <a:ext cx="88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col y formas activas de la Vit E. R: cadena lateral de 16C idéntica a la de 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144360" y="2500200"/>
            <a:ext cx="8713800" cy="27147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Son </a:t>
            </a:r>
            <a:r>
              <a:rPr b="1" lang="es-ES_tradnl" sz="2800" spc="-1" strike="noStrike">
                <a:solidFill>
                  <a:srgbClr val="ff0000"/>
                </a:solidFill>
                <a:latin typeface="Arial Narrow"/>
              </a:rPr>
              <a:t>micro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utrient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rgánicos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esenciale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ra el organismo, presentes en pequeñ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tidades en l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00000"/>
                </a:solidFill>
                <a:latin typeface="Arial"/>
              </a:rPr>
              <a:t>VITAMINAS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3192480" y="17859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Comic Sans MS"/>
              </a:rPr>
              <a:t>¿qué 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58920" y="1643040"/>
            <a:ext cx="8642160" cy="5286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tente </a:t>
            </a:r>
            <a:r>
              <a:rPr b="1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ANTIOXIDANT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vita la propagación de las reacciones de peroxi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terviene en los procesos inflam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mponente de las membranas celulares donde puede  reaccionar contra los radicale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2960" y="0"/>
            <a:ext cx="8501040" cy="13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ff6600"/>
                </a:solidFill>
                <a:latin typeface="Arial"/>
              </a:rPr>
              <a:t>VITAMIN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2627280" y="4508640"/>
            <a:ext cx="3241800" cy="18619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0"/>
          <p:cNvGrpSpPr/>
          <p:nvPr/>
        </p:nvGrpSpPr>
        <p:grpSpPr>
          <a:xfrm>
            <a:off x="539640" y="2349360"/>
            <a:ext cx="1344600" cy="1871640"/>
            <a:chOff x="539640" y="2349360"/>
            <a:chExt cx="1344600" cy="1871640"/>
          </a:xfrm>
        </p:grpSpPr>
        <p:sp>
          <p:nvSpPr>
            <p:cNvPr id="357" name="Freeform 11"/>
            <p:cNvSpPr/>
            <p:nvPr/>
          </p:nvSpPr>
          <p:spPr>
            <a:xfrm>
              <a:off x="539640" y="2349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2"/>
            <p:cNvSpPr/>
            <p:nvPr/>
          </p:nvSpPr>
          <p:spPr>
            <a:xfrm>
              <a:off x="803160" y="2357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 Box 13"/>
          <p:cNvSpPr/>
          <p:nvPr/>
        </p:nvSpPr>
        <p:spPr>
          <a:xfrm rot="19789800">
            <a:off x="324360" y="4005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1476360" y="1268280"/>
            <a:ext cx="3095640" cy="201636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COFE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LI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 flipH="1">
            <a:off x="1763640" y="306864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6"/>
          <p:cNvSpPr/>
          <p:nvPr/>
        </p:nvSpPr>
        <p:spPr>
          <a:xfrm>
            <a:off x="1908000" y="3405240"/>
            <a:ext cx="2016360" cy="1752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7"/>
          <p:cNvSpPr/>
          <p:nvPr/>
        </p:nvSpPr>
        <p:spPr>
          <a:xfrm rot="19590000">
            <a:off x="3492000" y="2997000"/>
            <a:ext cx="2592360" cy="93636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 flipV="1">
            <a:off x="5148360" y="4220640"/>
            <a:ext cx="1368360" cy="792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5867280" y="3357720"/>
            <a:ext cx="1440000" cy="792000"/>
          </a:xfrm>
          <a:prstGeom prst="ellipse">
            <a:avLst/>
          </a:prstGeom>
          <a:solidFill>
            <a:srgbClr val="faef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poP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6732720" y="148428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1"/>
          <p:cNvSpPr/>
          <p:nvPr/>
        </p:nvSpPr>
        <p:spPr>
          <a:xfrm>
            <a:off x="8172360" y="1341360"/>
            <a:ext cx="792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 flipH="1">
            <a:off x="8459280" y="2565360"/>
            <a:ext cx="73080" cy="23036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23"/>
          <p:cNvSpPr/>
          <p:nvPr/>
        </p:nvSpPr>
        <p:spPr>
          <a:xfrm>
            <a:off x="7885080" y="3573360"/>
            <a:ext cx="1008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F 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7500960" y="48546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RECIÓN (BIL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85840" y="0"/>
            <a:ext cx="851544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VITAMINA E – </a:t>
            </a:r>
            <a:r>
              <a:rPr b="1" lang="es-AR" sz="2800" spc="-1" strike="noStrike">
                <a:solidFill>
                  <a:srgbClr val="ff6600"/>
                </a:solidFill>
                <a:latin typeface="Comic Sans MS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0"/>
          <p:cNvSpPr/>
          <p:nvPr/>
        </p:nvSpPr>
        <p:spPr>
          <a:xfrm>
            <a:off x="0" y="1428840"/>
            <a:ext cx="3241800" cy="18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s gra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oliinsatu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membr. celul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3429000" y="2643120"/>
            <a:ext cx="180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5500800" y="1785960"/>
            <a:ext cx="3311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adical peróxido -Ac.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357800" y="4714920"/>
            <a:ext cx="3241440" cy="107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. G. poliin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en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14800" y="3000240"/>
            <a:ext cx="2652480" cy="82548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pecies Reactivas del 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 flipH="1">
            <a:off x="6715080" y="3000240"/>
            <a:ext cx="46080" cy="15796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8"/>
          <p:cNvSpPr/>
          <p:nvPr/>
        </p:nvSpPr>
        <p:spPr>
          <a:xfrm>
            <a:off x="7203960" y="2928960"/>
            <a:ext cx="1440000" cy="5763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6600"/>
                </a:solidFill>
                <a:latin typeface="Arial"/>
              </a:rPr>
              <a:t>Vit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9"/>
          <p:cNvSpPr/>
          <p:nvPr/>
        </p:nvSpPr>
        <p:spPr>
          <a:xfrm>
            <a:off x="7343640" y="3786120"/>
            <a:ext cx="1800360" cy="9471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adical tocofer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0"/>
          <p:cNvSpPr/>
          <p:nvPr/>
        </p:nvSpPr>
        <p:spPr>
          <a:xfrm>
            <a:off x="6786720" y="307188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357120" y="0"/>
            <a:ext cx="851544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VITAMINA E – </a:t>
            </a:r>
            <a:r>
              <a:rPr b="1" lang="es-AR" sz="2800" spc="-1" strike="noStrike">
                <a:solidFill>
                  <a:srgbClr val="ff6600"/>
                </a:solidFill>
                <a:latin typeface="Comic Sans MS"/>
              </a:rPr>
              <a:t>Función antioxi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7"/>
          <p:cNvSpPr/>
          <p:nvPr/>
        </p:nvSpPr>
        <p:spPr>
          <a:xfrm>
            <a:off x="179280" y="5013360"/>
            <a:ext cx="305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11280" y="1628640"/>
            <a:ext cx="748980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eites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 pequeña proporción: Carnes, manteca,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ceite"/>
          <p:cNvPicPr/>
          <p:nvPr/>
        </p:nvPicPr>
        <p:blipFill>
          <a:blip r:embed="rId1"/>
          <a:stretch/>
        </p:blipFill>
        <p:spPr>
          <a:xfrm>
            <a:off x="5433840" y="1268280"/>
            <a:ext cx="1946520" cy="2376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nueces"/>
          <p:cNvPicPr/>
          <p:nvPr/>
        </p:nvPicPr>
        <p:blipFill>
          <a:blip r:embed="rId2"/>
          <a:stretch/>
        </p:blipFill>
        <p:spPr>
          <a:xfrm>
            <a:off x="7408800" y="1268280"/>
            <a:ext cx="1735200" cy="21272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3564000" y="4653000"/>
            <a:ext cx="5256000" cy="1937880"/>
          </a:xfrm>
          <a:prstGeom prst="rect">
            <a:avLst/>
          </a:prstGeom>
          <a:solidFill>
            <a:srgbClr val="f3e80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 10-1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barazada y en lactancia 20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 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3132000" y="4508640"/>
            <a:ext cx="935280" cy="2160360"/>
          </a:xfrm>
          <a:custGeom>
            <a:avLst/>
            <a:gdLst>
              <a:gd name="textAreaLeft" fmla="*/ 597600 w 935280"/>
              <a:gd name="textAreaRight" fmla="*/ 935640 w 935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VITAMINA E </a:t>
            </a:r>
            <a:r>
              <a:rPr b="1" lang="es-AR" sz="40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Fuentes y   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4"/>
          <p:cNvSpPr/>
          <p:nvPr/>
        </p:nvSpPr>
        <p:spPr>
          <a:xfrm>
            <a:off x="179280" y="1557360"/>
            <a:ext cx="8785440" cy="450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cierta fragilidad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GLÓBULOS</a:t>
            </a:r>
            <a:r>
              <a:rPr b="1" lang="es-E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s-ES" sz="3200" spc="-1" strike="noStrike">
                <a:solidFill>
                  <a:srgbClr val="ff0066"/>
                </a:solidFill>
                <a:latin typeface="Arial"/>
              </a:rPr>
              <a:t>ROJ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membran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ién n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matur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observa deficiencia de esta vitamina, lo que provoc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nemia, trombosis, 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han observado efectos tóx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VITAMINA E - </a:t>
            </a:r>
            <a:r>
              <a:rPr b="1" lang="es-AR" sz="3200" spc="-1" strike="noStrike">
                <a:solidFill>
                  <a:srgbClr val="ff6600"/>
                </a:solidFill>
                <a:latin typeface="Comic Sans MS"/>
              </a:rPr>
              <a:t>Deficiencias-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14200" y="1571760"/>
            <a:ext cx="338472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14200" y="5000760"/>
            <a:ext cx="432144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523880" y="1211400"/>
            <a:ext cx="84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830240" y="3213000"/>
            <a:ext cx="73137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intetiza en el organismo, en el tracto intestinal, por 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en el proceso de coagulación: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ando factores de coagulac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II,VII,IX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reacciones de carb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u acción es inhibida competitivamente por anticoagulantes (antagon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00040" y="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4000" spc="-1" strike="noStrike">
                <a:solidFill>
                  <a:srgbClr val="7030a0"/>
                </a:solidFill>
                <a:latin typeface="Arial"/>
              </a:rPr>
              <a:t>VITAMINA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7030a0"/>
                </a:solidFill>
                <a:latin typeface="Arial"/>
              </a:rPr>
              <a:t>Sinónimo: Vit Antihemorrágica        </a:t>
            </a:r>
            <a:r>
              <a:rPr b="1" lang="es-AR" sz="3200" spc="-1" strike="noStrike">
                <a:solidFill>
                  <a:srgbClr val="7030a0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6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12"/>
          <p:cNvSpPr/>
          <p:nvPr/>
        </p:nvSpPr>
        <p:spPr>
          <a:xfrm>
            <a:off x="7524720" y="3500280"/>
            <a:ext cx="0" cy="1079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5076720" y="4653000"/>
            <a:ext cx="3996000" cy="202248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 la porción distal de intestino delgado y del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5"/>
          <p:cNvSpPr/>
          <p:nvPr/>
        </p:nvSpPr>
        <p:spPr>
          <a:xfrm>
            <a:off x="10429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6"/>
          <p:cNvSpPr/>
          <p:nvPr/>
        </p:nvSpPr>
        <p:spPr>
          <a:xfrm>
            <a:off x="63007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144360" y="4365720"/>
            <a:ext cx="4643640" cy="9471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les, lechuga, repollo, hígado y carne de ter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395280" y="5516640"/>
            <a:ext cx="3564000" cy="10159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s: 65-80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s: 1-2 m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0" descr="http://tbn0.google.com/images?q=tbn:CcgQhy2MHcUoBM:http://www.granjasdeluruguay.com.uy/materiales/verduras-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413000"/>
            <a:ext cx="4537080" cy="276696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4"/>
          <p:cNvGrpSpPr/>
          <p:nvPr/>
        </p:nvGrpSpPr>
        <p:grpSpPr>
          <a:xfrm>
            <a:off x="179280" y="1844640"/>
            <a:ext cx="8713440" cy="1655280"/>
            <a:chOff x="179280" y="1844640"/>
            <a:chExt cx="8713440" cy="1655280"/>
          </a:xfrm>
        </p:grpSpPr>
        <p:pic>
          <p:nvPicPr>
            <p:cNvPr id="405" name="Picture 5" descr="vitk1"/>
            <p:cNvPicPr/>
            <p:nvPr/>
          </p:nvPicPr>
          <p:blipFill>
            <a:blip r:embed="rId3"/>
            <a:stretch/>
          </p:blipFill>
          <p:spPr>
            <a:xfrm>
              <a:off x="179280" y="1875960"/>
              <a:ext cx="4315680" cy="15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6" descr="vitk2"/>
            <p:cNvPicPr/>
            <p:nvPr/>
          </p:nvPicPr>
          <p:blipFill>
            <a:blip r:embed="rId4"/>
            <a:stretch/>
          </p:blipFill>
          <p:spPr>
            <a:xfrm>
              <a:off x="5371920" y="1844640"/>
              <a:ext cx="3520800" cy="165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 Box 14"/>
          <p:cNvSpPr/>
          <p:nvPr/>
        </p:nvSpPr>
        <p:spPr>
          <a:xfrm>
            <a:off x="250920" y="3573360"/>
            <a:ext cx="310680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iloqui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500040" y="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200" spc="-1" strike="noStrike">
                <a:solidFill>
                  <a:srgbClr val="7030a0"/>
                </a:solidFill>
                <a:latin typeface="Arial"/>
              </a:rPr>
              <a:t>VITAMINA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7030a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5857920" y="3643200"/>
            <a:ext cx="257184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Farnoqui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4"/>
          <p:cNvSpPr/>
          <p:nvPr/>
        </p:nvSpPr>
        <p:spPr>
          <a:xfrm>
            <a:off x="179280" y="2174760"/>
            <a:ext cx="8785440" cy="3506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morra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identificada para formas 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Sintética: toxicidad hepática en lacta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500040" y="0"/>
            <a:ext cx="822960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Liposolubles</a:t>
            </a:r>
            <a:br>
              <a:rPr sz="2800"/>
            </a:br>
            <a:r>
              <a:rPr b="1" lang="es-AR" sz="3600" spc="-1" strike="noStrike">
                <a:solidFill>
                  <a:srgbClr val="7030a0"/>
                </a:solidFill>
                <a:latin typeface="Arial"/>
              </a:rPr>
              <a:t>VITAMINA K - </a:t>
            </a:r>
            <a:r>
              <a:rPr b="1" lang="es-AR" sz="3200" spc="-1" strike="noStrike">
                <a:solidFill>
                  <a:srgbClr val="7030a0"/>
                </a:solidFill>
                <a:latin typeface="Comic Sans MS"/>
              </a:rPr>
              <a:t>Deficiencias-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14200" y="1571760"/>
            <a:ext cx="338472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FI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0" y="349236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OX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RESUMEN DE LAS VITAMINAS LIPOSOL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64720" cy="5445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 excepción de la Vitamina D, se encuentran en alimentos vegetales y animales en distinta prop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avitaminosis se produce generalmente por mala absorción de lípidos o disminución en la excreción de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ueden almacenarse en los tejidos algunas por 2-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eden generar hipervitaminosis o intox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1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6" dur="5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"/>
          <p:cNvSpPr/>
          <p:nvPr/>
        </p:nvSpPr>
        <p:spPr>
          <a:xfrm>
            <a:off x="714240" y="214200"/>
            <a:ext cx="77724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62626"/>
                </a:solidFill>
                <a:latin typeface="Arial"/>
                <a:ea typeface="Arial"/>
              </a:rPr>
              <a:t>VITAMIN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62626"/>
                </a:solidFill>
                <a:latin typeface="Arial"/>
                <a:ea typeface="Arial"/>
              </a:rPr>
              <a:t>HIDROSOLUBLES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723960" y="1433520"/>
            <a:ext cx="7777080" cy="2151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itamina C, Vitaminas del Complejo B:  B12, B2, B6, niacina, ácido fólico, biotina y ác. Pantoté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95280" y="3546000"/>
            <a:ext cx="822960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se acumulan en el cuer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 transportan en la sangre unidas a proteínas plasmá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n procesos que producen energía metabó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8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0040" y="428760"/>
            <a:ext cx="832968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VITAM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Propiedade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uestos orgánicos sin relación entre sí, distintos de carbohidratos, lípidos o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Se encuentran en los alimentos naturales en concentraciones muy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Son </a:t>
            </a: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esenciales: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no pueden ser sintetizadas por el organismo, deben ser provistas por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on indispensables para mantener la salud y el crecimien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Sus deficiencias ocasiona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la aparición de enferme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4 CuadroTexto"/>
          <p:cNvSpPr/>
          <p:nvPr/>
        </p:nvSpPr>
        <p:spPr>
          <a:xfrm>
            <a:off x="797400" y="857160"/>
            <a:ext cx="2331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mplejo n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5 CuadroTexto"/>
          <p:cNvSpPr/>
          <p:nvPr/>
        </p:nvSpPr>
        <p:spPr>
          <a:xfrm>
            <a:off x="5439240" y="857160"/>
            <a:ext cx="1873800" cy="459720"/>
          </a:xfrm>
          <a:prstGeom prst="rect">
            <a:avLst/>
          </a:prstGeom>
          <a:solidFill>
            <a:srgbClr val="f73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mplej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714240" y="0"/>
            <a:ext cx="7772400" cy="571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 HIDROSOLUBLES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Rectángulo"/>
          <p:cNvSpPr/>
          <p:nvPr/>
        </p:nvSpPr>
        <p:spPr>
          <a:xfrm>
            <a:off x="5511960" y="4286160"/>
            <a:ext cx="300924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O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Co-Enz reacc. biosí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0 Rectángulo"/>
          <p:cNvSpPr/>
          <p:nvPr/>
        </p:nvSpPr>
        <p:spPr>
          <a:xfrm>
            <a:off x="219960" y="1643040"/>
            <a:ext cx="2061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Ácido Ascórb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Vi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1 Rectángulo"/>
          <p:cNvSpPr/>
          <p:nvPr/>
        </p:nvSpPr>
        <p:spPr>
          <a:xfrm>
            <a:off x="3013920" y="1714680"/>
            <a:ext cx="300780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Liberadoras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Co-Enz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2 Rectángulo"/>
          <p:cNvSpPr/>
          <p:nvPr/>
        </p:nvSpPr>
        <p:spPr>
          <a:xfrm>
            <a:off x="5715000" y="5308560"/>
            <a:ext cx="2286000" cy="20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iridoxina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iridox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iridox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4 Rectángulo"/>
          <p:cNvSpPr/>
          <p:nvPr/>
        </p:nvSpPr>
        <p:spPr>
          <a:xfrm>
            <a:off x="6429240" y="1643040"/>
            <a:ext cx="2500560" cy="1008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Hematopoyétic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Biosíntesis cé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nguín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15 Rectángulo"/>
          <p:cNvSpPr/>
          <p:nvPr/>
        </p:nvSpPr>
        <p:spPr>
          <a:xfrm>
            <a:off x="2928960" y="2786040"/>
            <a:ext cx="2428920" cy="377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iam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iboflavina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iacina        (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Ácido Pantoté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6 Rectángulo"/>
          <p:cNvSpPr/>
          <p:nvPr/>
        </p:nvSpPr>
        <p:spPr>
          <a:xfrm>
            <a:off x="6500880" y="3000240"/>
            <a:ext cx="2357280" cy="12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Ácido Fólico 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Vit B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20 Conector recto"/>
          <p:cNvSpPr/>
          <p:nvPr/>
        </p:nvSpPr>
        <p:spPr>
          <a:xfrm flipH="1">
            <a:off x="1498680" y="12859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24 Conector recto"/>
          <p:cNvSpPr/>
          <p:nvPr/>
        </p:nvSpPr>
        <p:spPr>
          <a:xfrm flipH="1">
            <a:off x="5571720" y="1357200"/>
            <a:ext cx="180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5 Conector recto"/>
          <p:cNvSpPr/>
          <p:nvPr/>
        </p:nvSpPr>
        <p:spPr>
          <a:xfrm flipH="1">
            <a:off x="7000920" y="12859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6 Conector recto"/>
          <p:cNvSpPr/>
          <p:nvPr/>
        </p:nvSpPr>
        <p:spPr>
          <a:xfrm flipH="1">
            <a:off x="4142880" y="242892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27 Conector recto"/>
          <p:cNvSpPr/>
          <p:nvPr/>
        </p:nvSpPr>
        <p:spPr>
          <a:xfrm flipH="1">
            <a:off x="7570800" y="264312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8 Conector recto"/>
          <p:cNvSpPr/>
          <p:nvPr/>
        </p:nvSpPr>
        <p:spPr>
          <a:xfrm flipH="1">
            <a:off x="6356520" y="500076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9 Conector recto"/>
          <p:cNvSpPr/>
          <p:nvPr/>
        </p:nvSpPr>
        <p:spPr>
          <a:xfrm flipH="1">
            <a:off x="6286680" y="135720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2 Conector recto"/>
          <p:cNvSpPr/>
          <p:nvPr/>
        </p:nvSpPr>
        <p:spPr>
          <a:xfrm flipH="1">
            <a:off x="2142720" y="50004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33 Conector recto"/>
          <p:cNvSpPr/>
          <p:nvPr/>
        </p:nvSpPr>
        <p:spPr>
          <a:xfrm flipH="1">
            <a:off x="6286680" y="500040"/>
            <a:ext cx="144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71280" y="1341360"/>
            <a:ext cx="91440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t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Tiamina Pirofosfato Descarboxilación oxid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boflavina  FAD, FM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Oxido-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iac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NAD, NADP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xido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 Pantotén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oenzima A         Transferencia de grupos a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ridoxal      Piridoxal fosfato     Transan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ot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biotinil                    Carbox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ido fólico      Tetra hidrofolato    Transferencia de un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ianocobalamina   Met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571680" y="-71280"/>
            <a:ext cx="835812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br>
              <a:rPr sz="2800"/>
            </a:br>
            <a:r>
              <a:rPr b="1" lang="es-AR" sz="4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Sinónimos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4"/>
          <p:cNvSpPr/>
          <p:nvPr/>
        </p:nvSpPr>
        <p:spPr>
          <a:xfrm>
            <a:off x="179280" y="3284640"/>
            <a:ext cx="2448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0" y="5143680"/>
            <a:ext cx="3384720" cy="15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SimSun"/>
              </a:rPr>
              <a:t>(T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1547640" y="38606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547640" y="4437000"/>
            <a:ext cx="122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1187280" y="3789360"/>
            <a:ext cx="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6"/>
          <p:cNvSpPr/>
          <p:nvPr/>
        </p:nvSpPr>
        <p:spPr>
          <a:xfrm>
            <a:off x="1189080" y="407664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TIAMINA ó VIT B</a:t>
            </a:r>
            <a:r>
              <a:rPr b="1" lang="es-AR" sz="3600" spc="-1" strike="noStrike" baseline="-25000">
                <a:solidFill>
                  <a:srgbClr val="222268"/>
                </a:solidFill>
                <a:latin typeface="Arial"/>
              </a:rPr>
              <a:t>1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222268"/>
                </a:solidFill>
                <a:latin typeface="Comic Sans MS"/>
              </a:rPr>
              <a:t>Funciones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20 CuadroTexto"/>
          <p:cNvSpPr/>
          <p:nvPr/>
        </p:nvSpPr>
        <p:spPr>
          <a:xfrm>
            <a:off x="3282840" y="3214800"/>
            <a:ext cx="59104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Cofactor de 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Descarboxilación oxidativ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alfa-ceto 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Piruv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lfa-Cetoglutar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C de Kre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d2d8a"/>
                </a:solidFill>
                <a:latin typeface="Arial"/>
              </a:rPr>
              <a:t>Transferencia de grupo cetol (2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anscetolasa (Vía de las Pentosas-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7" descr=""/>
          <p:cNvPicPr/>
          <p:nvPr/>
        </p:nvPicPr>
        <p:blipFill>
          <a:blip r:embed="rId1"/>
          <a:stretch/>
        </p:blipFill>
        <p:spPr>
          <a:xfrm>
            <a:off x="184320" y="1571760"/>
            <a:ext cx="4387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TIAMINA ó VIT B</a:t>
            </a:r>
            <a:r>
              <a:rPr b="1" lang="es-AR" sz="3600" spc="-1" strike="noStrike" baseline="-25000">
                <a:solidFill>
                  <a:srgbClr val="222268"/>
                </a:solidFill>
                <a:latin typeface="Arial"/>
              </a:rPr>
              <a:t>1</a:t>
            </a:r>
            <a:r>
              <a:rPr b="1" lang="es-AR" sz="36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222268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285840" y="1500120"/>
            <a:ext cx="4535280" cy="3764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 y carne de Ce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v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8" descr="trigo"/>
          <p:cNvPicPr/>
          <p:nvPr/>
        </p:nvPicPr>
        <p:blipFill>
          <a:blip r:embed="rId1"/>
          <a:stretch/>
        </p:blipFill>
        <p:spPr>
          <a:xfrm>
            <a:off x="5429160" y="157176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8" descr="carne cerdo"/>
          <p:cNvPicPr/>
          <p:nvPr/>
        </p:nvPicPr>
        <p:blipFill>
          <a:blip r:embed="rId2"/>
          <a:stretch/>
        </p:blipFill>
        <p:spPr>
          <a:xfrm>
            <a:off x="6929280" y="25002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0"/>
          <p:cNvSpPr/>
          <p:nvPr/>
        </p:nvSpPr>
        <p:spPr>
          <a:xfrm>
            <a:off x="857160" y="6072120"/>
            <a:ext cx="4248360" cy="52056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itaminosis: Beri 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0" y="5286240"/>
            <a:ext cx="763272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querimiento nutricional: 0,9-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images"/>
          <p:cNvPicPr/>
          <p:nvPr/>
        </p:nvPicPr>
        <p:blipFill>
          <a:blip r:embed="rId3"/>
          <a:stretch/>
        </p:blipFill>
        <p:spPr>
          <a:xfrm>
            <a:off x="5857920" y="378612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38"/>
          <p:cNvGrpSpPr/>
          <p:nvPr/>
        </p:nvGrpSpPr>
        <p:grpSpPr>
          <a:xfrm>
            <a:off x="428760" y="1693800"/>
            <a:ext cx="3282840" cy="3646800"/>
            <a:chOff x="428760" y="1693800"/>
            <a:chExt cx="3282840" cy="3646800"/>
          </a:xfrm>
        </p:grpSpPr>
        <p:pic>
          <p:nvPicPr>
            <p:cNvPr id="457" name="Picture 6" descr="B2-riboflavin"/>
            <p:cNvPicPr/>
            <p:nvPr/>
          </p:nvPicPr>
          <p:blipFill>
            <a:blip r:embed="rId1"/>
            <a:stretch/>
          </p:blipFill>
          <p:spPr>
            <a:xfrm>
              <a:off x="428760" y="1693800"/>
              <a:ext cx="328284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19"/>
            <p:cNvSpPr/>
            <p:nvPr/>
          </p:nvSpPr>
          <p:spPr>
            <a:xfrm>
              <a:off x="1111680" y="4759200"/>
              <a:ext cx="25318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Arial"/>
                </a:rPr>
                <a:t>Riboflav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21"/>
          <p:cNvSpPr/>
          <p:nvPr/>
        </p:nvSpPr>
        <p:spPr>
          <a:xfrm>
            <a:off x="642960" y="5286240"/>
            <a:ext cx="287964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FAD) (F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Arial"/>
              </a:rPr>
              <a:t>RIBOFLAVINA ó VIT B</a:t>
            </a:r>
            <a:r>
              <a:rPr b="1" lang="es-AR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s-AR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0066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9 CuadroTexto"/>
          <p:cNvSpPr/>
          <p:nvPr/>
        </p:nvSpPr>
        <p:spPr>
          <a:xfrm>
            <a:off x="3714840" y="1571760"/>
            <a:ext cx="54291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tegrante de 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izan reaccion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óxido-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j: Flavoprot FMN-Complejo I-Transp. Elec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j:Succinato deshidrogenasa-Complejo II- Transp. Electr., C de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5"/>
          <p:cNvSpPr/>
          <p:nvPr/>
        </p:nvSpPr>
        <p:spPr>
          <a:xfrm>
            <a:off x="2340000" y="4941720"/>
            <a:ext cx="4392720" cy="20224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Hombres: 1, 1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0,9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68360" y="1916280"/>
            <a:ext cx="489744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(Se destruye por luz 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4" descr="carne sana"/>
          <p:cNvPicPr/>
          <p:nvPr/>
        </p:nvPicPr>
        <p:blipFill>
          <a:blip r:embed="rId1"/>
          <a:stretch/>
        </p:blipFill>
        <p:spPr>
          <a:xfrm>
            <a:off x="5580000" y="213372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images"/>
          <p:cNvPicPr/>
          <p:nvPr/>
        </p:nvPicPr>
        <p:blipFill>
          <a:blip r:embed="rId2"/>
          <a:stretch/>
        </p:blipFill>
        <p:spPr>
          <a:xfrm>
            <a:off x="2771640" y="1903320"/>
            <a:ext cx="2030400" cy="2030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2"/>
          <p:cNvSpPr/>
          <p:nvPr/>
        </p:nvSpPr>
        <p:spPr>
          <a:xfrm>
            <a:off x="285840" y="7128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73bab"/>
                </a:solidFill>
                <a:latin typeface="Arial"/>
              </a:rPr>
              <a:t>RIBOFLAVINA ó VIT B</a:t>
            </a:r>
            <a:r>
              <a:rPr b="1" lang="es-AR" sz="3600" spc="-1" strike="noStrike" baseline="-25000">
                <a:solidFill>
                  <a:srgbClr val="f73bab"/>
                </a:solidFill>
                <a:latin typeface="Arial"/>
              </a:rPr>
              <a:t>2</a:t>
            </a:r>
            <a:r>
              <a:rPr b="1" lang="es-AR" sz="3600" spc="-1" strike="noStrike">
                <a:solidFill>
                  <a:srgbClr val="f73ba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	</a:t>
            </a:r>
            <a:r>
              <a:rPr b="1" lang="es-AR" sz="2400" spc="-1" strike="noStrike">
                <a:solidFill>
                  <a:srgbClr val="222268"/>
                </a:solidFill>
                <a:latin typeface="Comic Sans MS"/>
              </a:rPr>
              <a:t>Fuentes – Necesidades diarias</a:t>
            </a:r>
            <a:r>
              <a:rPr b="1" lang="es-AR" sz="3600" spc="-1" strike="noStrike">
                <a:solidFill>
                  <a:srgbClr val="222268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8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8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37"/>
          <p:cNvGrpSpPr/>
          <p:nvPr/>
        </p:nvGrpSpPr>
        <p:grpSpPr>
          <a:xfrm>
            <a:off x="857160" y="1928880"/>
            <a:ext cx="2819160" cy="3043800"/>
            <a:chOff x="857160" y="1928880"/>
            <a:chExt cx="2819160" cy="3043800"/>
          </a:xfrm>
        </p:grpSpPr>
        <p:grpSp>
          <p:nvGrpSpPr>
            <p:cNvPr id="469" name="Group 35"/>
            <p:cNvGrpSpPr/>
            <p:nvPr/>
          </p:nvGrpSpPr>
          <p:grpSpPr>
            <a:xfrm>
              <a:off x="857160" y="1928880"/>
              <a:ext cx="2749680" cy="2465640"/>
              <a:chOff x="857160" y="1928880"/>
              <a:chExt cx="2749680" cy="2465640"/>
            </a:xfrm>
          </p:grpSpPr>
          <p:sp>
            <p:nvSpPr>
              <p:cNvPr id="470" name="Text Box 24"/>
              <p:cNvSpPr/>
              <p:nvPr/>
            </p:nvSpPr>
            <p:spPr>
              <a:xfrm>
                <a:off x="1420920" y="1928880"/>
                <a:ext cx="564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1" name="Picture 26" descr="NAD"/>
              <p:cNvPicPr/>
              <p:nvPr/>
            </p:nvPicPr>
            <p:blipFill>
              <a:blip r:embed="rId1"/>
              <a:srcRect l="-3436" t="48821" r="69095" b="-1364"/>
              <a:stretch/>
            </p:blipFill>
            <p:spPr>
              <a:xfrm>
                <a:off x="857160" y="2543760"/>
                <a:ext cx="2749680" cy="18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28"/>
              <p:cNvSpPr/>
              <p:nvPr/>
            </p:nvSpPr>
            <p:spPr>
              <a:xfrm>
                <a:off x="1279440" y="2270880"/>
                <a:ext cx="705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29"/>
              <p:cNvSpPr/>
              <p:nvPr/>
            </p:nvSpPr>
            <p:spPr>
              <a:xfrm>
                <a:off x="1420920" y="3569040"/>
                <a:ext cx="422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│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31"/>
            <p:cNvSpPr/>
            <p:nvPr/>
          </p:nvSpPr>
          <p:spPr>
            <a:xfrm>
              <a:off x="926640" y="4391280"/>
              <a:ext cx="274968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cotinami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32"/>
          <p:cNvSpPr/>
          <p:nvPr/>
        </p:nvSpPr>
        <p:spPr>
          <a:xfrm>
            <a:off x="857160" y="5072040"/>
            <a:ext cx="287964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D (NA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398520" y="5911920"/>
            <a:ext cx="84596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280"/>
            <a:ext cx="8643960" cy="16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NIACINA ó VIT B</a:t>
            </a:r>
            <a:r>
              <a:rPr b="1" lang="es-AR" sz="36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baseline="-25000">
                <a:solidFill>
                  <a:srgbClr val="ff6600"/>
                </a:solidFill>
                <a:latin typeface="Arial"/>
              </a:rPr>
              <a:t>Sinónimo: Ac. Nicotínico</a:t>
            </a:r>
            <a:r>
              <a:rPr b="1" lang="es-AR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CuadroTexto"/>
          <p:cNvSpPr/>
          <p:nvPr/>
        </p:nvSpPr>
        <p:spPr>
          <a:xfrm>
            <a:off x="3733200" y="2143080"/>
            <a:ext cx="555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talizan reaccion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óxido-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j: en C de Kre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fa-ceto-glutar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lato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0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2"/>
          <p:cNvSpPr/>
          <p:nvPr/>
        </p:nvSpPr>
        <p:spPr>
          <a:xfrm>
            <a:off x="468360" y="4219560"/>
            <a:ext cx="5076720" cy="18180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mbres: 12,0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11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395280" y="1341360"/>
            <a:ext cx="43210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Triptof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7" descr="pescado"/>
          <p:cNvPicPr/>
          <p:nvPr/>
        </p:nvPicPr>
        <p:blipFill>
          <a:blip r:embed="rId1"/>
          <a:stretch/>
        </p:blipFill>
        <p:spPr>
          <a:xfrm>
            <a:off x="4716360" y="1628640"/>
            <a:ext cx="1776600" cy="22338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9"/>
          <p:cNvSpPr/>
          <p:nvPr/>
        </p:nvSpPr>
        <p:spPr>
          <a:xfrm>
            <a:off x="324000" y="6237360"/>
            <a:ext cx="51116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: Pela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0"/>
          <p:cNvSpPr/>
          <p:nvPr/>
        </p:nvSpPr>
        <p:spPr>
          <a:xfrm>
            <a:off x="5940360" y="4724280"/>
            <a:ext cx="2519280" cy="1555920"/>
          </a:xfrm>
          <a:prstGeom prst="ellipse">
            <a:avLst/>
          </a:prstGeom>
          <a:solidFill>
            <a:srgbClr val="ea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m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5" descr="carne vaca"/>
          <p:cNvPicPr/>
          <p:nvPr/>
        </p:nvPicPr>
        <p:blipFill>
          <a:blip r:embed="rId2"/>
          <a:stretch/>
        </p:blipFill>
        <p:spPr>
          <a:xfrm>
            <a:off x="6300720" y="1268280"/>
            <a:ext cx="2592360" cy="17352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285840" y="71280"/>
            <a:ext cx="864396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NIACINA ó VIT B3 </a:t>
            </a: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50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8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biotin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1049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468360" y="3645000"/>
            <a:ext cx="7921440" cy="296964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50000">
                <a:srgbClr val="eafba3"/>
              </a:gs>
              <a:gs pos="100000">
                <a:srgbClr val="6c74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ACTÚA COMO </a:t>
            </a: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COENZIMA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E REACCIONES DE CARBOXILACIÓN Y TRANSFERENCIA DE GRUPOS AC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708360" y="2205000"/>
            <a:ext cx="2462400" cy="5814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-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214200" y="0"/>
            <a:ext cx="864396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8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6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1116000" y="1422360"/>
            <a:ext cx="543564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nueces"/>
          <p:cNvPicPr/>
          <p:nvPr/>
        </p:nvPicPr>
        <p:blipFill>
          <a:blip r:embed="rId1"/>
          <a:stretch/>
        </p:blipFill>
        <p:spPr>
          <a:xfrm>
            <a:off x="6651720" y="3500280"/>
            <a:ext cx="1881000" cy="230508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7"/>
          <p:cNvSpPr/>
          <p:nvPr/>
        </p:nvSpPr>
        <p:spPr>
          <a:xfrm>
            <a:off x="216000" y="5945040"/>
            <a:ext cx="853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lara de huevo cruda inhibe su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images"/>
          <p:cNvPicPr/>
          <p:nvPr/>
        </p:nvPicPr>
        <p:blipFill>
          <a:blip r:embed="rId2"/>
          <a:stretch/>
        </p:blipFill>
        <p:spPr>
          <a:xfrm>
            <a:off x="6588000" y="1628640"/>
            <a:ext cx="1957680" cy="19576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1"/>
          <p:cNvSpPr/>
          <p:nvPr/>
        </p:nvSpPr>
        <p:spPr>
          <a:xfrm>
            <a:off x="3276720" y="4724280"/>
            <a:ext cx="3313080" cy="11692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Fuentes – 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5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 CuadroTexto"/>
          <p:cNvSpPr/>
          <p:nvPr/>
        </p:nvSpPr>
        <p:spPr>
          <a:xfrm>
            <a:off x="428760" y="214200"/>
            <a:ext cx="8429400" cy="611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7030a0"/>
                </a:solidFill>
                <a:uFillTx/>
                <a:latin typeface="Arial"/>
              </a:rPr>
              <a:t>No</a:t>
            </a: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 cumplen funciones energ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Actúan como COENZIMAS o GRUPO PROSTÉTICO de las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Algunas son ANTIOXI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Participan regulando el metabolismo de nutrientes, síntesis de hormonas y neurotransmi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 Rectángulo"/>
          <p:cNvSpPr/>
          <p:nvPr/>
        </p:nvSpPr>
        <p:spPr>
          <a:xfrm>
            <a:off x="2244240" y="285840"/>
            <a:ext cx="50259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VITAM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Funcione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8"/>
          <p:cNvGrpSpPr/>
          <p:nvPr/>
        </p:nvGrpSpPr>
        <p:grpSpPr>
          <a:xfrm>
            <a:off x="1511280" y="2565360"/>
            <a:ext cx="1344600" cy="1871640"/>
            <a:chOff x="1511280" y="2565360"/>
            <a:chExt cx="1344600" cy="1871640"/>
          </a:xfrm>
        </p:grpSpPr>
        <p:sp>
          <p:nvSpPr>
            <p:cNvPr id="497" name="Freeform 9"/>
            <p:cNvSpPr/>
            <p:nvPr/>
          </p:nvSpPr>
          <p:spPr>
            <a:xfrm>
              <a:off x="1511280" y="2565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1774800" y="2573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11"/>
          <p:cNvSpPr/>
          <p:nvPr/>
        </p:nvSpPr>
        <p:spPr>
          <a:xfrm rot="19789800">
            <a:off x="1295640" y="4220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H="1">
            <a:off x="2268000" y="1989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61128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59280" y="2421000"/>
            <a:ext cx="3816360" cy="57960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LISINA    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>
            <a:off x="730872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292720" y="4076640"/>
            <a:ext cx="3311640" cy="52056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    BI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5508720" y="2997360"/>
            <a:ext cx="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7020000" y="3068640"/>
            <a:ext cx="1728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1"/>
          <p:cNvSpPr/>
          <p:nvPr/>
        </p:nvSpPr>
        <p:spPr>
          <a:xfrm>
            <a:off x="5003640" y="206064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2"/>
          <p:cNvSpPr/>
          <p:nvPr/>
        </p:nvSpPr>
        <p:spPr>
          <a:xfrm>
            <a:off x="5292720" y="364500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6300720" y="429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2340000" y="5373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angre: Forma libre o unida a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>
            <a:off x="579600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BIOTINA O 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OA"/>
          <p:cNvPicPr/>
          <p:nvPr/>
        </p:nvPicPr>
        <p:blipFill>
          <a:blip r:embed="rId1"/>
          <a:stretch/>
        </p:blipFill>
        <p:spPr>
          <a:xfrm>
            <a:off x="539640" y="1341360"/>
            <a:ext cx="7580520" cy="26593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250920" y="32846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enzima A (CoA-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250920" y="4429080"/>
            <a:ext cx="8569080" cy="1982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ONSTITUYENTE  DE LA Coenzima 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tabolismo energ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ferencia de grupos ac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1619280" y="1341360"/>
            <a:ext cx="2160720" cy="1224000"/>
          </a:xfrm>
          <a:prstGeom prst="rect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1403280" y="2637000"/>
            <a:ext cx="2335320" cy="580680"/>
          </a:xfrm>
          <a:prstGeom prst="rect">
            <a:avLst/>
          </a:prstGeom>
          <a:solidFill>
            <a:srgbClr val="d7f959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siduo de Ac. pantot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85840" y="0"/>
            <a:ext cx="864396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Arial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58840" y="1214280"/>
            <a:ext cx="8670960" cy="3395880"/>
          </a:xfrm>
          <a:prstGeom prst="rect">
            <a:avLst/>
          </a:prstGeom>
          <a:ln w="0">
            <a:noFill/>
          </a:ln>
        </p:spPr>
      </p:pic>
      <p:sp>
        <p:nvSpPr>
          <p:cNvPr id="521" name="5 CuadroTexto"/>
          <p:cNvSpPr/>
          <p:nvPr/>
        </p:nvSpPr>
        <p:spPr>
          <a:xfrm>
            <a:off x="1666800" y="471492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Funciones metabólicas d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8 Rectángulo"/>
          <p:cNvSpPr/>
          <p:nvPr/>
        </p:nvSpPr>
        <p:spPr>
          <a:xfrm>
            <a:off x="428760" y="2571840"/>
            <a:ext cx="1000080" cy="64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7"/>
          <p:cNvSpPr/>
          <p:nvPr/>
        </p:nvSpPr>
        <p:spPr>
          <a:xfrm>
            <a:off x="1116000" y="2060640"/>
            <a:ext cx="7056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ayoría de los Al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&gt; Huevo, Hígado y Lev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611280" y="4149720"/>
            <a:ext cx="7705800" cy="132300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50000">
                <a:srgbClr val="f3e805"/>
              </a:gs>
              <a:gs pos="100000">
                <a:srgbClr val="706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querimiento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4-6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324000" y="5791320"/>
            <a:ext cx="8280360" cy="155628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: Atrofia del nervio óptico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214200" y="142920"/>
            <a:ext cx="8643960" cy="157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7030a0"/>
                </a:solidFill>
                <a:latin typeface="Arial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entes – Necesidades di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FOLICO O VIT B9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7030a0"/>
                </a:solidFill>
                <a:latin typeface="Comic Sans MS"/>
              </a:rPr>
              <a:t>Fuentes – Necesidades diarias - Función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Bc-acidofolic"/>
          <p:cNvPicPr/>
          <p:nvPr/>
        </p:nvPicPr>
        <p:blipFill>
          <a:blip r:embed="rId1"/>
          <a:stretch/>
        </p:blipFill>
        <p:spPr>
          <a:xfrm>
            <a:off x="0" y="1000080"/>
            <a:ext cx="1832040" cy="27352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71280" y="3786120"/>
            <a:ext cx="8893440" cy="2360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 PARTE DEL ÁCIDO TETRAHIDROFÓLICO, (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REACCIONES DE TRANSFERENCIA DE RESTOS DE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N CARBO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2428920" y="1324080"/>
            <a:ext cx="3816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Fuentes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0" descr="http://tbn0.google.com/images?q=tbn:CcgQhy2MHcUoBM:http://www.granjasdeluruguay.com.uy/materiales/verduras-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798560"/>
            <a:ext cx="2556000" cy="155916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0"/>
          <p:cNvSpPr/>
          <p:nvPr/>
        </p:nvSpPr>
        <p:spPr>
          <a:xfrm>
            <a:off x="1085760" y="6165720"/>
            <a:ext cx="727236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: 200 </a:t>
            </a: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500"/>
                            </p:stCondLst>
                            <p:childTnLst>
                              <p:par>
                                <p:cTn id="2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96360" cy="522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ción de glóbulos rojos junto con la vitamina B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íntesis de ADN que controla los factores ge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l tubo neural del bebé en las primeras semanas de ges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maduración de glóbulos ro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628560" y="21420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FOLICO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7030a0"/>
                </a:solidFill>
                <a:latin typeface="Comic Sans MS"/>
              </a:rPr>
              <a:t>Función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1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6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1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686800" cy="496728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portador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cesita unirse al factor extrínseco para poder absorberse en í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transporta unida a una proteína (Transcobalamina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e almacena en híg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 en el metabolismo energético: Degradación de Acidos Grasos de número impar de átom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428760" y="28584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3200" spc="-1" strike="noStrike">
                <a:solidFill>
                  <a:srgbClr val="ff6600"/>
                </a:solidFill>
                <a:latin typeface="Arial"/>
              </a:rPr>
              <a:t>VITAMINA B12 O COBALAMINA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200" spc="-1" strike="noStrike">
                <a:solidFill>
                  <a:srgbClr val="ff6600"/>
                </a:solidFill>
                <a:latin typeface="Comic Sans MS"/>
              </a:rPr>
              <a:t>Función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176560" y="1095480"/>
            <a:ext cx="4790880" cy="4667040"/>
          </a:xfrm>
          <a:prstGeom prst="rect">
            <a:avLst/>
          </a:prstGeom>
          <a:ln w="0">
            <a:noFill/>
          </a:ln>
        </p:spPr>
      </p:pic>
      <p:sp>
        <p:nvSpPr>
          <p:cNvPr id="539" name="4 CuadroTexto"/>
          <p:cNvSpPr/>
          <p:nvPr/>
        </p:nvSpPr>
        <p:spPr>
          <a:xfrm>
            <a:off x="2732040" y="6000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Cianocobalamina ó Vit B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0"/>
          <p:cNvSpPr/>
          <p:nvPr/>
        </p:nvSpPr>
        <p:spPr>
          <a:xfrm>
            <a:off x="785880" y="2857680"/>
            <a:ext cx="7886520" cy="350604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Coenzima de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versión de homocisteína a 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xidación de ácidos grasos de n° impar de átomos d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857160" y="285840"/>
            <a:ext cx="7848720" cy="219924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6600"/>
                </a:solidFill>
                <a:uFillTx/>
                <a:latin typeface="Arial"/>
              </a:rPr>
              <a:t>Formas activa de la Vitamina B</a:t>
            </a:r>
            <a:r>
              <a:rPr b="1" lang="es-AR" sz="3200" spc="-1" strike="noStrike" u="sng" baseline="-25000">
                <a:solidFill>
                  <a:srgbClr val="ff66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soxicobalamina (Coenzima B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cobalamina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Me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22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1332000" y="1916280"/>
            <a:ext cx="5400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Arial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6600"/>
                </a:solidFill>
                <a:latin typeface="Arial"/>
              </a:rPr>
              <a:t>Acción de B12 sobre transporte </a:t>
            </a:r>
            <a:br>
              <a:rPr sz="3200"/>
            </a:br>
            <a:r>
              <a:rPr b="0" lang="es-AR" sz="3200" spc="-1" strike="noStrike">
                <a:solidFill>
                  <a:srgbClr val="ff6600"/>
                </a:solidFill>
                <a:latin typeface="Arial"/>
              </a:rPr>
              <a:t>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AutoShape 14"/>
          <p:cNvCxnSpPr>
            <a:stCxn id="545" idx="1"/>
            <a:endCxn id="544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3" name="Line 15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1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3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28760" y="214200"/>
            <a:ext cx="824868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Son aportadas como tal por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2060"/>
                </a:solidFill>
                <a:uFillTx/>
                <a:latin typeface="Arial"/>
              </a:rPr>
              <a:t>PROVITAMINAS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Precursores sin actividad vitamínica, su metabolismo da origen a la </a:t>
            </a:r>
            <a:r>
              <a:rPr b="0" i="1" lang="es-ES" sz="2800" spc="-1" strike="noStrike">
                <a:solidFill>
                  <a:srgbClr val="002060"/>
                </a:solidFill>
                <a:latin typeface="Arial"/>
              </a:rPr>
              <a:t>vitamina a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8000"/>
                </a:solidFill>
                <a:uFillTx/>
                <a:latin typeface="Arial"/>
              </a:rPr>
              <a:t>ANTIVITAMINAS: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Con estructura química semejante a alguna vitamina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 compiten con ellas en los sistemas enzimát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y bloquean su acción. No tienen actividad vitamínica.                             Se usan como 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3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3419640" y="2924280"/>
            <a:ext cx="3241440" cy="18619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8"/>
          <p:cNvGrpSpPr/>
          <p:nvPr/>
        </p:nvGrpSpPr>
        <p:grpSpPr>
          <a:xfrm>
            <a:off x="539640" y="3714840"/>
            <a:ext cx="1344600" cy="1871640"/>
            <a:chOff x="539640" y="3714840"/>
            <a:chExt cx="1344600" cy="1871640"/>
          </a:xfrm>
        </p:grpSpPr>
        <p:sp>
          <p:nvSpPr>
            <p:cNvPr id="562" name="Freeform 9"/>
            <p:cNvSpPr/>
            <p:nvPr/>
          </p:nvSpPr>
          <p:spPr>
            <a:xfrm>
              <a:off x="539640" y="37148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"/>
            <p:cNvSpPr/>
            <p:nvPr/>
          </p:nvSpPr>
          <p:spPr>
            <a:xfrm>
              <a:off x="803160" y="37227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Oval 12"/>
          <p:cNvSpPr/>
          <p:nvPr/>
        </p:nvSpPr>
        <p:spPr>
          <a:xfrm>
            <a:off x="2700360" y="1131840"/>
            <a:ext cx="2663640" cy="1440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BA-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-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8"/>
          <p:cNvSpPr/>
          <p:nvPr/>
        </p:nvSpPr>
        <p:spPr>
          <a:xfrm>
            <a:off x="6877080" y="321300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4" descr="ANd9GcS9XpcOfEIXphk44UC2swYYNpCKp2IInQjmjBJ70f63kP-jXW1P"/>
          <p:cNvPicPr/>
          <p:nvPr/>
        </p:nvPicPr>
        <p:blipFill>
          <a:blip r:embed="rId2"/>
          <a:stretch/>
        </p:blipFill>
        <p:spPr>
          <a:xfrm>
            <a:off x="468360" y="148428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5"/>
          <p:cNvSpPr/>
          <p:nvPr/>
        </p:nvSpPr>
        <p:spPr>
          <a:xfrm>
            <a:off x="395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ptocor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6"/>
          <p:cNvSpPr/>
          <p:nvPr/>
        </p:nvSpPr>
        <p:spPr>
          <a:xfrm rot="20133000">
            <a:off x="1332000" y="3933360"/>
            <a:ext cx="158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3"/>
          <p:cNvSpPr/>
          <p:nvPr/>
        </p:nvSpPr>
        <p:spPr>
          <a:xfrm flipH="1">
            <a:off x="1619280" y="299736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7"/>
          <p:cNvSpPr/>
          <p:nvPr/>
        </p:nvSpPr>
        <p:spPr>
          <a:xfrm>
            <a:off x="395280" y="4149720"/>
            <a:ext cx="720720" cy="792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8"/>
          <p:cNvSpPr/>
          <p:nvPr/>
        </p:nvSpPr>
        <p:spPr>
          <a:xfrm>
            <a:off x="0" y="3573360"/>
            <a:ext cx="971640" cy="79236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 rot="19635600">
            <a:off x="33480" y="56462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0"/>
          <p:cNvSpPr/>
          <p:nvPr/>
        </p:nvSpPr>
        <p:spPr>
          <a:xfrm>
            <a:off x="1979640" y="5013360"/>
            <a:ext cx="720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1763640" y="5877000"/>
            <a:ext cx="1441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T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2"/>
          <p:cNvSpPr/>
          <p:nvPr/>
        </p:nvSpPr>
        <p:spPr>
          <a:xfrm>
            <a:off x="3203640" y="4149720"/>
            <a:ext cx="1776240" cy="18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3"/>
          <p:cNvSpPr/>
          <p:nvPr/>
        </p:nvSpPr>
        <p:spPr>
          <a:xfrm>
            <a:off x="4716360" y="4653000"/>
            <a:ext cx="2880000" cy="1392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5940360" y="1981080"/>
            <a:ext cx="1944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6"/>
          <p:cNvSpPr/>
          <p:nvPr/>
        </p:nvSpPr>
        <p:spPr>
          <a:xfrm>
            <a:off x="5796000" y="1266840"/>
            <a:ext cx="2952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7"/>
          <p:cNvSpPr/>
          <p:nvPr/>
        </p:nvSpPr>
        <p:spPr>
          <a:xfrm>
            <a:off x="58672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8"/>
          <p:cNvSpPr/>
          <p:nvPr/>
        </p:nvSpPr>
        <p:spPr>
          <a:xfrm flipH="1">
            <a:off x="4788000" y="1643040"/>
            <a:ext cx="107928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9"/>
          <p:cNvSpPr/>
          <p:nvPr/>
        </p:nvSpPr>
        <p:spPr>
          <a:xfrm flipH="1">
            <a:off x="4716360" y="214308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>
            <a:off x="378000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3924360" y="5229360"/>
            <a:ext cx="2520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485640" y="214200"/>
            <a:ext cx="82296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VITAMINA B12 O COBAL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6600"/>
                </a:solidFill>
                <a:latin typeface="Comic Sans MS"/>
              </a:rPr>
              <a:t>Metabolismo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8"/>
          <p:cNvSpPr/>
          <p:nvPr/>
        </p:nvSpPr>
        <p:spPr>
          <a:xfrm>
            <a:off x="857160" y="4071960"/>
            <a:ext cx="7705800" cy="246672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100000">
                <a:srgbClr val="eafb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VITAMIN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umulación de AG de cadena im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éficit de ácido f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emia pernic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1143000" y="1428840"/>
            <a:ext cx="6624720" cy="246672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: 0,9-1,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cianos: 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2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3 Rectángulo"/>
          <p:cNvSpPr/>
          <p:nvPr/>
        </p:nvSpPr>
        <p:spPr>
          <a:xfrm>
            <a:off x="2669040" y="92880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6600"/>
                </a:solidFill>
                <a:latin typeface="Comic Sans MS"/>
              </a:rPr>
              <a:t>Necesidades dia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357120" y="214200"/>
            <a:ext cx="8229600" cy="71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MPLEJO B</a:t>
            </a:r>
            <a:br>
              <a:rPr sz="2400"/>
            </a:br>
            <a:r>
              <a:rPr b="1" lang="es-AR" sz="2400" spc="-1" strike="noStrike">
                <a:solidFill>
                  <a:srgbClr val="ff6600"/>
                </a:solidFill>
                <a:latin typeface="Arial"/>
              </a:rPr>
              <a:t>VITAMINA B12 O COBALAMINA</a:t>
            </a:r>
            <a:br>
              <a:rPr sz="24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7" descr="b6"/>
          <p:cNvPicPr/>
          <p:nvPr/>
        </p:nvPicPr>
        <p:blipFill>
          <a:blip r:embed="rId1"/>
          <a:stretch/>
        </p:blipFill>
        <p:spPr>
          <a:xfrm>
            <a:off x="324000" y="1708200"/>
            <a:ext cx="2881080" cy="17920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8"/>
          <p:cNvSpPr/>
          <p:nvPr/>
        </p:nvSpPr>
        <p:spPr>
          <a:xfrm>
            <a:off x="543600" y="3768840"/>
            <a:ext cx="2076480" cy="9471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sfa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iridox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144360" y="5157720"/>
            <a:ext cx="896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ON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S UNA COENZIMA DE ENZIMAS QUE INTERVIENEN EN EL METABOLISMO DE  LOS AMINOÁCIDOS (TRANSAMIN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4"/>
          <p:cNvSpPr/>
          <p:nvPr/>
        </p:nvSpPr>
        <p:spPr>
          <a:xfrm>
            <a:off x="3419640" y="1701720"/>
            <a:ext cx="460836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5" descr="trigo"/>
          <p:cNvPicPr/>
          <p:nvPr/>
        </p:nvPicPr>
        <p:blipFill>
          <a:blip r:embed="rId2"/>
          <a:stretch/>
        </p:blipFill>
        <p:spPr>
          <a:xfrm>
            <a:off x="6985080" y="2492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Fuentes – 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3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"/>
          <p:cNvSpPr/>
          <p:nvPr/>
        </p:nvSpPr>
        <p:spPr>
          <a:xfrm>
            <a:off x="501480" y="928800"/>
            <a:ext cx="8642520" cy="311544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 nutriciona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2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g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 1,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&gt;50 años 1,5-1,7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mbarazas y en lactancia 1,9-2,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ños 0,5-0,6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468360" y="5877000"/>
            <a:ext cx="48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Muy ra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57120" y="4643280"/>
            <a:ext cx="3672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Hiper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2214720" y="4071960"/>
            <a:ext cx="4537080" cy="5205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vel máximo: 10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143240" y="5357880"/>
            <a:ext cx="14414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5572080" y="5000760"/>
            <a:ext cx="32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uropat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acido ascorbico"/>
          <p:cNvPicPr/>
          <p:nvPr/>
        </p:nvPicPr>
        <p:blipFill>
          <a:blip r:embed="rId1"/>
          <a:srcRect l="0" t="42828" r="73987" b="3673"/>
          <a:stretch/>
        </p:blipFill>
        <p:spPr>
          <a:xfrm>
            <a:off x="684360" y="1989000"/>
            <a:ext cx="1873080" cy="251964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395280" y="4653000"/>
            <a:ext cx="2448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ido Ascór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3635280" y="1557360"/>
            <a:ext cx="446580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os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miento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i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l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hortalizas lindas"/>
          <p:cNvPicPr/>
          <p:nvPr/>
        </p:nvPicPr>
        <p:blipFill>
          <a:blip r:embed="rId2"/>
          <a:stretch/>
        </p:blipFill>
        <p:spPr>
          <a:xfrm>
            <a:off x="5508720" y="32846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0c0"/>
                </a:solidFill>
                <a:latin typeface="Arial"/>
              </a:rPr>
              <a:t>ACIDO ASCÓRBICO O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omic Sans MS"/>
              </a:rPr>
              <a:t>F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6" dur="indefinite" restart="never" nodeType="tmRoot">
          <p:childTnLst>
            <p:seq>
              <p:cTn id="2157" dur="indefinite" nodeType="mainSeq">
                <p:childTnLst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500"/>
                            </p:stCondLst>
                            <p:childTnLst>
                              <p:par>
                                <p:cTn id="2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factor de Varias Enzimas de hidr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empeña un papel fundamental en la cicatrización de heridas por su participación en la síntesis de coláge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ioxidante y además protege a otros antioxidantes (Vit A y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gente Reductor: Reducción de Fe para su absorción intestinal.(Fe+++ a Fe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2858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0c0"/>
                </a:solidFill>
                <a:latin typeface="Arial"/>
              </a:rPr>
              <a:t>ACIDO ASCÓRBICO O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omic Sans MS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0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5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0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5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6"/>
          <p:cNvSpPr/>
          <p:nvPr/>
        </p:nvSpPr>
        <p:spPr>
          <a:xfrm>
            <a:off x="500040" y="1714680"/>
            <a:ext cx="8137440" cy="181800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 diari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60 m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80 y en lactancia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42960" y="3786120"/>
            <a:ext cx="3600360" cy="581400"/>
          </a:xfrm>
          <a:prstGeom prst="rect">
            <a:avLst/>
          </a:prstGeom>
          <a:gradFill rotWithShape="0">
            <a:gsLst>
              <a:gs pos="0">
                <a:srgbClr val="6c7106"/>
              </a:gs>
              <a:gs pos="50000">
                <a:srgbClr val="e9f40e"/>
              </a:gs>
              <a:gs pos="100000">
                <a:srgbClr val="6c7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9"/>
          <p:cNvSpPr/>
          <p:nvPr/>
        </p:nvSpPr>
        <p:spPr>
          <a:xfrm>
            <a:off x="4286160" y="4071960"/>
            <a:ext cx="1728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6000840" y="3778200"/>
            <a:ext cx="3024000" cy="58140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5689440" y="4933800"/>
            <a:ext cx="3383280" cy="15562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álculos renales                       Diar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14200" y="5072040"/>
            <a:ext cx="4211640" cy="581400"/>
          </a:xfrm>
          <a:prstGeom prst="rect">
            <a:avLst/>
          </a:prstGeom>
          <a:gradFill rotWithShape="0">
            <a:gsLst>
              <a:gs pos="0">
                <a:srgbClr val="6e401e"/>
              </a:gs>
              <a:gs pos="50000">
                <a:srgbClr val="ed8b41"/>
              </a:gs>
              <a:gs pos="100000">
                <a:srgbClr val="6e40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3"/>
          <p:cNvSpPr/>
          <p:nvPr/>
        </p:nvSpPr>
        <p:spPr>
          <a:xfrm>
            <a:off x="4572000" y="5286240"/>
            <a:ext cx="1152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1714680" y="571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&gt;2000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2858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Vitaminas Hidrosolub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0c0"/>
                </a:solidFill>
                <a:latin typeface="Arial"/>
              </a:rPr>
              <a:t>ACIDO ASCÓRBICO O VITAMIN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50716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ncuentran en alimentos de origen Vegetal y Animal a excepción de la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solo en esto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solubles en agua por lo que se absorben y s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transportan unidos a proteín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se almacenan en los tejidos por mucho tiempo a excepción de la Vitamina B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xcretan por orina ó 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yoría está formando parte d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oenzim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actúan en el metabolismo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714240" y="0"/>
            <a:ext cx="777240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62626"/>
                </a:solidFill>
                <a:latin typeface="Arial"/>
                <a:ea typeface="Arial"/>
              </a:rPr>
              <a:t>RESUMEN DE LAS VITAMINAS HIDROSOLUBL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4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9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4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9" dur="5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443280" y="5805360"/>
            <a:ext cx="2303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BAL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250920" y="2205000"/>
            <a:ext cx="4392360" cy="105984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Cambios patológicos y tendencia a hemorragias en dientes y e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179280" y="836640"/>
            <a:ext cx="5183280" cy="12027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AQU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ficiencias en el crecimiento del 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Piernas arqueadas y articulaciones ensanch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108000" y="3376440"/>
            <a:ext cx="4392720" cy="91692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ERI BERI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terioro del sistema nervioso y circulatorio, ed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108000" y="454500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Hinchazón lengua, dermatitis, trastornos neurológicos y gastrointestin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179280" y="573408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EMIA MEGALOB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Eritrocitos grandes, anómalos e inma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6804000" y="1197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565164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5"/>
          <p:cNvSpPr/>
          <p:nvPr/>
        </p:nvSpPr>
        <p:spPr>
          <a:xfrm flipH="1">
            <a:off x="5940360" y="98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6732720" y="3645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IAMINA (B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6804000" y="2421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TAMIN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6588000" y="4869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IACINA (B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9"/>
          <p:cNvSpPr/>
          <p:nvPr/>
        </p:nvSpPr>
        <p:spPr>
          <a:xfrm>
            <a:off x="543564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0"/>
          <p:cNvSpPr/>
          <p:nvPr/>
        </p:nvSpPr>
        <p:spPr>
          <a:xfrm flipH="1">
            <a:off x="5724360" y="5877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1"/>
          <p:cNvSpPr/>
          <p:nvPr/>
        </p:nvSpPr>
        <p:spPr>
          <a:xfrm>
            <a:off x="550872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2"/>
          <p:cNvSpPr/>
          <p:nvPr/>
        </p:nvSpPr>
        <p:spPr>
          <a:xfrm flipH="1">
            <a:off x="5796000" y="4869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3"/>
          <p:cNvSpPr/>
          <p:nvPr/>
        </p:nvSpPr>
        <p:spPr>
          <a:xfrm>
            <a:off x="5364000" y="378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4"/>
          <p:cNvSpPr/>
          <p:nvPr/>
        </p:nvSpPr>
        <p:spPr>
          <a:xfrm flipH="1">
            <a:off x="5651280" y="3500280"/>
            <a:ext cx="21564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5"/>
          <p:cNvSpPr/>
          <p:nvPr/>
        </p:nvSpPr>
        <p:spPr>
          <a:xfrm>
            <a:off x="5508720" y="270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6"/>
          <p:cNvSpPr/>
          <p:nvPr/>
        </p:nvSpPr>
        <p:spPr>
          <a:xfrm flipH="1">
            <a:off x="5797440" y="242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3857760"/>
            <a:ext cx="1714680" cy="2195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4076640"/>
            <a:ext cx="1857600" cy="1743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929040"/>
            <a:ext cx="2214360" cy="2313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0" descr="http://tbn0.google.com/images?q=tbn:CcgQhy2MHcUoBM:http://www.granjasdeluruguay.com.uy/materiales/verduras-00.jpg"/>
          <p:cNvPicPr/>
          <p:nvPr/>
        </p:nvPicPr>
        <p:blipFill>
          <a:blip r:embed="rId7"/>
          <a:stretch/>
        </p:blipFill>
        <p:spPr>
          <a:xfrm>
            <a:off x="5940360" y="148428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http://tbn0.google.com/images?q=tbn:I4KwKBNfdBz16M:http://www.mygomera.de/fotos/04-09-17_fischer/pescados_800.jpg"/>
          <p:cNvPicPr/>
          <p:nvPr/>
        </p:nvPicPr>
        <p:blipFill>
          <a:blip r:embed="rId8"/>
          <a:stretch/>
        </p:blipFill>
        <p:spPr>
          <a:xfrm>
            <a:off x="3571920" y="1500120"/>
            <a:ext cx="183996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9"/>
          <a:stretch/>
        </p:blipFill>
        <p:spPr>
          <a:xfrm>
            <a:off x="2643120" y="42148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carne sana"/>
          <p:cNvPicPr/>
          <p:nvPr/>
        </p:nvPicPr>
        <p:blipFill>
          <a:blip r:embed="rId10"/>
          <a:stretch/>
        </p:blipFill>
        <p:spPr>
          <a:xfrm>
            <a:off x="539640" y="1413000"/>
            <a:ext cx="2592360" cy="19540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9"/>
          <p:cNvSpPr/>
          <p:nvPr/>
        </p:nvSpPr>
        <p:spPr>
          <a:xfrm>
            <a:off x="0" y="333360"/>
            <a:ext cx="8820000" cy="9471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ALIMENTOS SANOS Y VARIADOS FAVORECEN UN ESTADO DE BUEN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9 CuadroTexto"/>
          <p:cNvSpPr/>
          <p:nvPr/>
        </p:nvSpPr>
        <p:spPr>
          <a:xfrm>
            <a:off x="1714680" y="5857920"/>
            <a:ext cx="668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Suplementos vitamínicos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sólo aportarse en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uy justific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00040" y="71280"/>
            <a:ext cx="8229600" cy="678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AVITAMI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70c0"/>
                </a:solidFill>
                <a:latin typeface="Arial"/>
              </a:rPr>
              <a:t>Cuadro patológico por carencia de una o más 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Arial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Mala alimentación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pocos alimentos frescos/vari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Absorción intestinal deficiente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celiaquía, escases de bil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Alto consumo alimentos que perdieron las vitaminas durante su manipulación ó conservación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con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Aumento de los requirimientos vitamínicos </a:t>
            </a: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(embarazo, lactancia, cre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6600"/>
                </a:solidFill>
                <a:latin typeface="Arial"/>
              </a:rPr>
              <a:t>Excesos desequilibrad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utrición”-Texto y Atlas –Autores: Biesalski.Grimm-  Ed. Panamericana-Año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ES VITAM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ad, sexo, peso,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 fisiológico (embarazo y lact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s hospitalizadas por larg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ientos prolongados con antibió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de un traumatismo, quemadura, transp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7280" y="5445000"/>
            <a:ext cx="85327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Arial"/>
              </a:rPr>
              <a:t>Una alimentación variada permite que estén disponibles en cantidad suficiente sin necesidad de tomar complejos vitamínicos ex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verduras"/>
          <p:cNvPicPr/>
          <p:nvPr/>
        </p:nvPicPr>
        <p:blipFill>
          <a:blip r:embed="rId1"/>
          <a:stretch/>
        </p:blipFill>
        <p:spPr>
          <a:xfrm>
            <a:off x="3924360" y="2997360"/>
            <a:ext cx="1238040" cy="933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carne vaca"/>
          <p:cNvPicPr/>
          <p:nvPr/>
        </p:nvPicPr>
        <p:blipFill>
          <a:blip r:embed="rId2"/>
          <a:stretch/>
        </p:blipFill>
        <p:spPr>
          <a:xfrm>
            <a:off x="6012000" y="3357720"/>
            <a:ext cx="1180800" cy="79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pescado"/>
          <p:cNvPicPr/>
          <p:nvPr/>
        </p:nvPicPr>
        <p:blipFill>
          <a:blip r:embed="rId3"/>
          <a:stretch/>
        </p:blipFill>
        <p:spPr>
          <a:xfrm>
            <a:off x="2340000" y="3679920"/>
            <a:ext cx="92376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images"/>
          <p:cNvPicPr/>
          <p:nvPr/>
        </p:nvPicPr>
        <p:blipFill>
          <a:blip r:embed="rId4"/>
          <a:stretch/>
        </p:blipFill>
        <p:spPr>
          <a:xfrm>
            <a:off x="971640" y="195120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ceite"/>
          <p:cNvPicPr/>
          <p:nvPr/>
        </p:nvPicPr>
        <p:blipFill>
          <a:blip r:embed="rId5"/>
          <a:stretch/>
        </p:blipFill>
        <p:spPr>
          <a:xfrm>
            <a:off x="5219640" y="1773360"/>
            <a:ext cx="905040" cy="1104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nueces"/>
          <p:cNvPicPr/>
          <p:nvPr/>
        </p:nvPicPr>
        <p:blipFill>
          <a:blip r:embed="rId6"/>
          <a:stretch/>
        </p:blipFill>
        <p:spPr>
          <a:xfrm>
            <a:off x="5292720" y="4149720"/>
            <a:ext cx="9716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CuadroTexto"/>
          <p:cNvSpPr/>
          <p:nvPr/>
        </p:nvSpPr>
        <p:spPr>
          <a:xfrm>
            <a:off x="2021760" y="71280"/>
            <a:ext cx="5822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studiar de las Vitamin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928800" y="714240"/>
            <a:ext cx="7500960" cy="585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inó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tructura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uente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Absorción, transporte, 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ecanism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eficiencias (avitami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fectos tóx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0:10:02Z</dcterms:created>
  <dc:creator>Bj</dc:creator>
  <dc:description/>
  <dc:language>en-US</dc:language>
  <cp:lastModifiedBy>ali y facu</cp:lastModifiedBy>
  <dcterms:modified xsi:type="dcterms:W3CDTF">2014-12-14T13:25:16Z</dcterms:modified>
  <cp:revision>510</cp:revision>
  <dc:subject/>
  <dc:title>Diapositiva 1</dc:title>
</cp:coreProperties>
</file>